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1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8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50920" y="0"/>
            <a:ext cx="2941560" cy="48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932040" y="740880"/>
            <a:ext cx="4930560" cy="36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120" y="4690800"/>
            <a:ext cx="4979880" cy="4437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9380520"/>
            <a:ext cx="2941560" cy="48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50920" y="9380520"/>
            <a:ext cx="2941560" cy="48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CC655-9541-4CDA-AC99-E9CF95965CD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3851280" y="9380520"/>
            <a:ext cx="2941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2F18A-E801-4805-BDCC-4E41B0E969D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16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E38-93FB-438A-89D9-A68BA246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22928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705-5E5E-45B8-B096-E0CA1E18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8AF-63EC-4625-BD7F-29A3FFEA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8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8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22928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22928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22928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29A-5ACC-460F-A56C-0EDAFDEE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77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4E1-C3A6-4138-B792-7EFFCE3A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7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75F-F17A-439A-BC92-3E2F979D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5BF-F572-4B2A-AF26-4B05E5C5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F5A-B6F9-4FDE-A4DB-ECE8ED64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322200"/>
            <a:ext cx="7788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B55-2756-4D30-9A06-AA19AB10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BD3-0BF0-4518-B8F8-6098E502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22928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647-98B4-49AF-BE72-45B5B93E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8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22928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423-A545-434B-8BA6-46E88755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7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2/10/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12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320" y="6324120"/>
            <a:ext cx="1900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5653DE-29CB-4A1A-A46E-54E48AEB82A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piè di pagina 3"/>
          <p:cNvSpPr/>
          <p:nvPr/>
        </p:nvSpPr>
        <p:spPr>
          <a:xfrm>
            <a:off x="3352680" y="6324480"/>
            <a:ext cx="289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ET S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Segnaposto numero diapositiva 4"/>
          <p:cNvSpPr/>
          <p:nvPr/>
        </p:nvSpPr>
        <p:spPr>
          <a:xfrm>
            <a:off x="6781680" y="6324480"/>
            <a:ext cx="19004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89258-F531-486D-99A0-1AAC6CA7A18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280" y="2138040"/>
            <a:ext cx="755964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eb8509"/>
                </a:solidFill>
                <a:latin typeface="Tahoma"/>
              </a:rPr>
              <a:t>Riflessioni brevi su:</a:t>
            </a:r>
            <a:br>
              <a:rPr sz="2800"/>
            </a:br>
            <a:r>
              <a:rPr b="1" lang="it-IT" sz="2800" spc="-1" strike="noStrike">
                <a:solidFill>
                  <a:srgbClr val="eb8509"/>
                </a:solidFill>
                <a:latin typeface="Tahoma"/>
              </a:rPr>
              <a:t>1. </a:t>
            </a:r>
            <a:r>
              <a:rPr b="1" lang="it-IT" sz="2800" spc="-1" strike="noStrike">
                <a:solidFill>
                  <a:srgbClr val="262699"/>
                </a:solidFill>
                <a:latin typeface="Tahoma"/>
              </a:rPr>
              <a:t>R</a:t>
            </a:r>
            <a:r>
              <a:rPr b="1" lang="it-IT" sz="2800" spc="-1" strike="noStrike">
                <a:solidFill>
                  <a:srgbClr val="eb8509"/>
                </a:solidFill>
                <a:latin typeface="Tahoma"/>
              </a:rPr>
              <a:t>ACCOLTE DIFFERENZIATE </a:t>
            </a:r>
            <a:br>
              <a:rPr sz="2800"/>
            </a:br>
            <a:r>
              <a:rPr b="1" lang="it-IT" sz="2800" spc="-1" strike="noStrike">
                <a:solidFill>
                  <a:srgbClr val="eb8509"/>
                </a:solidFill>
                <a:latin typeface="Tahoma"/>
              </a:rPr>
              <a:t>2. NON SOLO </a:t>
            </a:r>
            <a:r>
              <a:rPr b="1" lang="it-IT" sz="2800" spc="-1" strike="noStrike">
                <a:solidFill>
                  <a:srgbClr val="00664d"/>
                </a:solidFill>
                <a:latin typeface="Tahoma"/>
              </a:rPr>
              <a:t>R</a:t>
            </a:r>
            <a:r>
              <a:rPr b="1" lang="it-IT" sz="2800" spc="-1" strike="noStrike">
                <a:solidFill>
                  <a:srgbClr val="eb8509"/>
                </a:solidFill>
                <a:latin typeface="Tahoma"/>
              </a:rPr>
              <a:t>ICICLO</a:t>
            </a:r>
            <a:br>
              <a:rPr sz="2800"/>
            </a:b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9 slide di con</a:t>
            </a:r>
            <a:r>
              <a:rPr b="0" i="1" lang="it-IT" sz="2000" spc="-1" strike="noStrike">
                <a:solidFill>
                  <a:srgbClr val="7030a0"/>
                </a:solidFill>
                <a:latin typeface="Tahoma"/>
              </a:rPr>
              <a:t>t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nuto</a:t>
            </a:r>
            <a:br>
              <a:rPr sz="28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11120" y="59324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Mercoledì 28 ottobre 20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1523880" y="457200"/>
          <a:ext cx="221004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57200"/>
                    <a:ext cx="22100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er concludere, gli impeg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ell’ambito del ricic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rodurre indicatori di qualità nel servizio differenziata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mbientale – q. conferimenti, impatto del servizio, indicatori economici ed organizzativ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mulare la  tariffa puntuale (con tutte le   considerazioni correl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7878de"/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ell’ambito del riutilizz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. Presentare al Comune di Udine un progetto per via Rizzo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 … iniziare a condividere metodologie, esperienze  con gli altri attori del serviz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egnaposto data 2"/>
          <p:cNvSpPr/>
          <p:nvPr/>
        </p:nvSpPr>
        <p:spPr>
          <a:xfrm>
            <a:off x="914400" y="6324480"/>
            <a:ext cx="19000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2/10/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data 3"/>
          <p:cNvSpPr/>
          <p:nvPr/>
        </p:nvSpPr>
        <p:spPr>
          <a:xfrm>
            <a:off x="914400" y="6324480"/>
            <a:ext cx="19000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2/10/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CasellaDiTesto 8"/>
          <p:cNvSpPr/>
          <p:nvPr/>
        </p:nvSpPr>
        <p:spPr>
          <a:xfrm>
            <a:off x="8143920" y="21420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60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7734240" cy="6410160"/>
          </a:xfrm>
          <a:prstGeom prst="rect">
            <a:avLst/>
          </a:prstGeom>
          <a:ln w="0">
            <a:noFill/>
          </a:ln>
        </p:spPr>
      </p:pic>
      <p:sp>
        <p:nvSpPr>
          <p:cNvPr id="67" name="Fumetto 4 5"/>
          <p:cNvSpPr/>
          <p:nvPr/>
        </p:nvSpPr>
        <p:spPr>
          <a:xfrm>
            <a:off x="7715160" y="1714680"/>
            <a:ext cx="1357560" cy="1000080"/>
          </a:xfrm>
          <a:prstGeom prst="cloudCallout">
            <a:avLst>
              <a:gd name="adj1" fmla="val 33129"/>
              <a:gd name="adj2" fmla="val -15105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Le raccolta differenziate Riflessio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istemi di registrazione conferimen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1^ Modalità (esisten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txBody>
          <a:bodyPr lIns="90000" rIns="90000" tIns="46800" bIns="46800" anchor="b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2^ Modalità (in fase di valutazi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egnaposto data 3"/>
          <p:cNvSpPr/>
          <p:nvPr/>
        </p:nvSpPr>
        <p:spPr>
          <a:xfrm>
            <a:off x="914400" y="6324480"/>
            <a:ext cx="19000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2/10/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57200" y="2857680"/>
            <a:ext cx="4040280" cy="307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anone_cassonetto"/>
          <p:cNvPicPr/>
          <p:nvPr/>
        </p:nvPicPr>
        <p:blipFill>
          <a:blip r:embed="rId2"/>
          <a:stretch/>
        </p:blipFill>
        <p:spPr>
          <a:xfrm>
            <a:off x="5643720" y="3143160"/>
            <a:ext cx="1952640" cy="25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3"/>
          <p:cNvGraphicFramePr/>
          <p:nvPr/>
        </p:nvGraphicFramePr>
        <p:xfrm>
          <a:off x="6215040" y="4286160"/>
          <a:ext cx="552600" cy="2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5040" y="4286160"/>
                    <a:ext cx="5526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Udine, esiti 1^ merceologica orga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7" name="Segnaposto contenuto 3" descr=""/>
          <p:cNvPicPr/>
          <p:nvPr/>
        </p:nvPicPr>
        <p:blipFill>
          <a:blip r:embed="rId1"/>
          <a:stretch/>
        </p:blipFill>
        <p:spPr>
          <a:xfrm>
            <a:off x="500040" y="23320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cargneluttis\Impostazioni locali\Temporary Internet Files\Content.IE5\KR6S5HXU\MCj04099450000[1].wmf"/>
          <p:cNvPicPr/>
          <p:nvPr/>
        </p:nvPicPr>
        <p:blipFill>
          <a:blip r:embed="rId2"/>
          <a:stretch/>
        </p:blipFill>
        <p:spPr>
          <a:xfrm>
            <a:off x="0" y="5961240"/>
            <a:ext cx="1071720" cy="8967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6"/>
          <p:cNvSpPr/>
          <p:nvPr/>
        </p:nvSpPr>
        <p:spPr>
          <a:xfrm>
            <a:off x="6215040" y="6396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ircoscrizione II e 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CasellaDiTesto 7"/>
          <p:cNvSpPr/>
          <p:nvPr/>
        </p:nvSpPr>
        <p:spPr>
          <a:xfrm>
            <a:off x="1071720" y="62150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25 maggio 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674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Direttiva 98/2008/CE, risaliamo nelle gerarchia dei rifiu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2920" y="2071800"/>
            <a:ext cx="3807000" cy="4233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riutilizz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» qualsiasi operazione attraverso la quale prodotti o componenti che non sono rifiuti sono reimpiegati per la stessa finalità per la quale erano stati concepiti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1680" y="2071800"/>
            <a:ext cx="38080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riciclaggi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preparazione per il riutilizz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» le operazioni di controllo, pulizia e riparazione attraverso cui prodotti o componenti di prodotti diventati rifiuti sono preparati in modo da poter essere reimpiegati senza altro pretratt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Segnaposto data 3"/>
          <p:cNvSpPr/>
          <p:nvPr/>
        </p:nvSpPr>
        <p:spPr>
          <a:xfrm>
            <a:off x="914400" y="6324480"/>
            <a:ext cx="19000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2/10/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CasellaDiTesto 9"/>
          <p:cNvSpPr/>
          <p:nvPr/>
        </p:nvSpPr>
        <p:spPr>
          <a:xfrm>
            <a:off x="8143920" y="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Fumetto 4 6"/>
          <p:cNvSpPr/>
          <p:nvPr/>
        </p:nvSpPr>
        <p:spPr>
          <a:xfrm>
            <a:off x="7643880" y="1285920"/>
            <a:ext cx="1357200" cy="714240"/>
          </a:xfrm>
          <a:prstGeom prst="cloudCallout">
            <a:avLst>
              <a:gd name="adj1" fmla="val 33129"/>
              <a:gd name="adj2" fmla="val -15105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Non solo ricicl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ttangolo 1"/>
          <p:cNvSpPr/>
          <p:nvPr/>
        </p:nvSpPr>
        <p:spPr>
          <a:xfrm>
            <a:off x="1143000" y="571680"/>
            <a:ext cx="2286000" cy="714240"/>
          </a:xfrm>
          <a:prstGeom prst="rect">
            <a:avLst/>
          </a:prstGeom>
          <a:solidFill>
            <a:srgbClr val="00664d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B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8" name="Connettore 2 3"/>
          <p:cNvCxnSpPr/>
          <p:nvPr/>
        </p:nvCxnSpPr>
        <p:spPr>
          <a:xfrm flipV="1">
            <a:off x="3499920" y="928080"/>
            <a:ext cx="2429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Rettangolo 4"/>
          <p:cNvSpPr/>
          <p:nvPr/>
        </p:nvSpPr>
        <p:spPr>
          <a:xfrm>
            <a:off x="6072120" y="571680"/>
            <a:ext cx="2286000" cy="714240"/>
          </a:xfrm>
          <a:prstGeom prst="rect">
            <a:avLst/>
          </a:prstGeom>
          <a:solidFill>
            <a:srgbClr val="00664d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B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CasellaDiTesto 6"/>
          <p:cNvSpPr/>
          <p:nvPr/>
        </p:nvSpPr>
        <p:spPr>
          <a:xfrm>
            <a:off x="3857760" y="63036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Riutilizzo / Preven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CasellaDiTesto 7"/>
          <p:cNvSpPr/>
          <p:nvPr/>
        </p:nvSpPr>
        <p:spPr>
          <a:xfrm>
            <a:off x="4500720" y="1571760"/>
            <a:ext cx="157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Preparazione al riutiliz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ttangolo 8"/>
          <p:cNvSpPr/>
          <p:nvPr/>
        </p:nvSpPr>
        <p:spPr>
          <a:xfrm>
            <a:off x="1214280" y="3214800"/>
            <a:ext cx="1143000" cy="714240"/>
          </a:xfrm>
          <a:prstGeom prst="rect">
            <a:avLst/>
          </a:prstGeom>
          <a:solidFill>
            <a:srgbClr val="00664d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B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ttangolo 9"/>
          <p:cNvSpPr/>
          <p:nvPr/>
        </p:nvSpPr>
        <p:spPr>
          <a:xfrm>
            <a:off x="2928960" y="3214800"/>
            <a:ext cx="1428840" cy="714240"/>
          </a:xfrm>
          <a:prstGeom prst="rect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RIFI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ttangolo 11"/>
          <p:cNvSpPr/>
          <p:nvPr/>
        </p:nvSpPr>
        <p:spPr>
          <a:xfrm>
            <a:off x="5214960" y="3214800"/>
            <a:ext cx="1143000" cy="714240"/>
          </a:xfrm>
          <a:prstGeom prst="rect">
            <a:avLst/>
          </a:prstGeom>
          <a:solidFill>
            <a:srgbClr val="00664d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Bene, M.P.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5" name="Connettore 2 12"/>
          <p:cNvCxnSpPr/>
          <p:nvPr/>
        </p:nvCxnSpPr>
        <p:spPr>
          <a:xfrm>
            <a:off x="4428720" y="3571920"/>
            <a:ext cx="715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Connettore 2 14"/>
          <p:cNvCxnSpPr/>
          <p:nvPr/>
        </p:nvCxnSpPr>
        <p:spPr>
          <a:xfrm>
            <a:off x="2428560" y="3571920"/>
            <a:ext cx="500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CasellaDiTesto 16"/>
          <p:cNvSpPr/>
          <p:nvPr/>
        </p:nvSpPr>
        <p:spPr>
          <a:xfrm>
            <a:off x="4429080" y="36432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Ricic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ttangolo 17"/>
          <p:cNvSpPr/>
          <p:nvPr/>
        </p:nvSpPr>
        <p:spPr>
          <a:xfrm>
            <a:off x="1071720" y="5072040"/>
            <a:ext cx="1928520" cy="71424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SIDUO di lavor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Connettore 4 20"/>
          <p:cNvCxnSpPr/>
          <p:nvPr/>
        </p:nvCxnSpPr>
        <p:spPr>
          <a:xfrm flipH="1" rot="16200000">
            <a:off x="5036400" y="3821400"/>
            <a:ext cx="714960" cy="21528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CasellaDiTesto 23"/>
          <p:cNvSpPr/>
          <p:nvPr/>
        </p:nvSpPr>
        <p:spPr>
          <a:xfrm>
            <a:off x="4929120" y="414324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essazione status di “rifiut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ccia tridirezionale 24"/>
          <p:cNvSpPr/>
          <p:nvPr/>
        </p:nvSpPr>
        <p:spPr>
          <a:xfrm rot="5400000">
            <a:off x="6321600" y="3321720"/>
            <a:ext cx="857520" cy="50004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CasellaDiTesto 25"/>
          <p:cNvSpPr/>
          <p:nvPr/>
        </p:nvSpPr>
        <p:spPr>
          <a:xfrm>
            <a:off x="6500880" y="2643120"/>
            <a:ext cx="235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Riutilizzo, senza impatto sull’ambiente e salu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CasellaDiTesto 26"/>
          <p:cNvSpPr/>
          <p:nvPr/>
        </p:nvSpPr>
        <p:spPr>
          <a:xfrm>
            <a:off x="6929280" y="328608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siste un mercato o una domand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CasellaDiTesto 27"/>
          <p:cNvSpPr/>
          <p:nvPr/>
        </p:nvSpPr>
        <p:spPr>
          <a:xfrm>
            <a:off x="6429240" y="3929040"/>
            <a:ext cx="257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oddisfa requisiti tecnici e normativi (sui prodotti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ccia tridirezionale 30"/>
          <p:cNvSpPr/>
          <p:nvPr/>
        </p:nvSpPr>
        <p:spPr>
          <a:xfrm rot="5400000">
            <a:off x="2821320" y="5179320"/>
            <a:ext cx="857160" cy="50004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CasellaDiTesto 31"/>
          <p:cNvSpPr/>
          <p:nvPr/>
        </p:nvSpPr>
        <p:spPr>
          <a:xfrm>
            <a:off x="3000240" y="47340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Riutilizzo cer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CasellaDiTesto 32"/>
          <p:cNvSpPr/>
          <p:nvPr/>
        </p:nvSpPr>
        <p:spPr>
          <a:xfrm>
            <a:off x="3643200" y="5143680"/>
            <a:ext cx="20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enza alcun ulteriore trattamento specif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CasellaDiTesto 33"/>
          <p:cNvSpPr/>
          <p:nvPr/>
        </p:nvSpPr>
        <p:spPr>
          <a:xfrm>
            <a:off x="3000240" y="578016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arte integrante di un processo di produzione; l'ulteriore utilizzo è legale (norme sui prodotti, ambiente e salut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ttangolo 34"/>
          <p:cNvSpPr/>
          <p:nvPr/>
        </p:nvSpPr>
        <p:spPr>
          <a:xfrm>
            <a:off x="6072120" y="5000760"/>
            <a:ext cx="2786040" cy="714240"/>
          </a:xfrm>
          <a:prstGeom prst="rect">
            <a:avLst/>
          </a:prstGeom>
          <a:solidFill>
            <a:srgbClr val="00664d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OTTOPRODOT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CasellaDiTesto 35"/>
          <p:cNvSpPr/>
          <p:nvPr/>
        </p:nvSpPr>
        <p:spPr>
          <a:xfrm>
            <a:off x="214200" y="50004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Wingdings 2"/>
                <a:ea typeface="Wingdings 2"/>
              </a:rPr>
              <a:t>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ttangolo 36"/>
          <p:cNvSpPr/>
          <p:nvPr/>
        </p:nvSpPr>
        <p:spPr>
          <a:xfrm>
            <a:off x="218520" y="1785960"/>
            <a:ext cx="67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Wingdings 2"/>
                <a:ea typeface="Wingdings 2"/>
              </a:rPr>
              <a:t>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ttangolo 37"/>
          <p:cNvSpPr/>
          <p:nvPr/>
        </p:nvSpPr>
        <p:spPr>
          <a:xfrm>
            <a:off x="213840" y="3214800"/>
            <a:ext cx="68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Connettore 1 39" descr=""/>
          <p:cNvPicPr/>
          <p:nvPr/>
        </p:nvPicPr>
        <p:blipFill>
          <a:blip r:embed="rId1"/>
          <a:stretch/>
        </p:blipFill>
        <p:spPr>
          <a:xfrm>
            <a:off x="133200" y="1487520"/>
            <a:ext cx="8663040" cy="169920"/>
          </a:xfrm>
          <a:prstGeom prst="rect">
            <a:avLst/>
          </a:prstGeom>
          <a:ln w="0">
            <a:noFill/>
          </a:ln>
        </p:spPr>
      </p:pic>
      <p:pic>
        <p:nvPicPr>
          <p:cNvPr id="114" name="Connettore 1 40" descr=""/>
          <p:cNvPicPr/>
          <p:nvPr/>
        </p:nvPicPr>
        <p:blipFill>
          <a:blip r:embed="rId2"/>
          <a:stretch/>
        </p:blipFill>
        <p:spPr>
          <a:xfrm>
            <a:off x="133200" y="4627440"/>
            <a:ext cx="8663040" cy="169920"/>
          </a:xfrm>
          <a:prstGeom prst="rect">
            <a:avLst/>
          </a:prstGeom>
          <a:ln w="0">
            <a:noFill/>
          </a:ln>
        </p:spPr>
      </p:pic>
      <p:pic>
        <p:nvPicPr>
          <p:cNvPr id="115" name="Connettore 1 42" descr=""/>
          <p:cNvPicPr/>
          <p:nvPr/>
        </p:nvPicPr>
        <p:blipFill>
          <a:blip r:embed="rId3"/>
          <a:stretch/>
        </p:blipFill>
        <p:spPr>
          <a:xfrm>
            <a:off x="914400" y="493560"/>
            <a:ext cx="171360" cy="5877000"/>
          </a:xfrm>
          <a:prstGeom prst="rect">
            <a:avLst/>
          </a:prstGeom>
          <a:ln w="0">
            <a:noFill/>
          </a:ln>
        </p:spPr>
      </p:pic>
      <p:pic>
        <p:nvPicPr>
          <p:cNvPr id="116" name="Connettore 1 31" descr=""/>
          <p:cNvPicPr/>
          <p:nvPr/>
        </p:nvPicPr>
        <p:blipFill>
          <a:blip r:embed="rId4"/>
          <a:stretch/>
        </p:blipFill>
        <p:spPr>
          <a:xfrm>
            <a:off x="133200" y="2560680"/>
            <a:ext cx="8663040" cy="16992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32"/>
          <p:cNvSpPr/>
          <p:nvPr/>
        </p:nvSpPr>
        <p:spPr>
          <a:xfrm>
            <a:off x="1214280" y="1785960"/>
            <a:ext cx="1143000" cy="714240"/>
          </a:xfrm>
          <a:prstGeom prst="rect">
            <a:avLst/>
          </a:prstGeom>
          <a:solidFill>
            <a:srgbClr val="00664d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B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ttangolo 33"/>
          <p:cNvSpPr/>
          <p:nvPr/>
        </p:nvSpPr>
        <p:spPr>
          <a:xfrm>
            <a:off x="3000240" y="1785960"/>
            <a:ext cx="1357560" cy="714240"/>
          </a:xfrm>
          <a:prstGeom prst="rect">
            <a:avLst/>
          </a:prstGeom>
          <a:solidFill>
            <a:srgbClr val="c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RIFI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9" name="Connettore 2 35"/>
          <p:cNvCxnSpPr/>
          <p:nvPr/>
        </p:nvCxnSpPr>
        <p:spPr>
          <a:xfrm>
            <a:off x="4571640" y="2142720"/>
            <a:ext cx="1429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Connettore 2 36"/>
          <p:cNvCxnSpPr/>
          <p:nvPr/>
        </p:nvCxnSpPr>
        <p:spPr>
          <a:xfrm>
            <a:off x="2428560" y="2142720"/>
            <a:ext cx="5007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Rettangolo 38"/>
          <p:cNvSpPr/>
          <p:nvPr/>
        </p:nvSpPr>
        <p:spPr>
          <a:xfrm>
            <a:off x="4372560" y="2143080"/>
            <a:ext cx="187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operazioni di controllo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pulizia e riparazi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ttangolo 41"/>
          <p:cNvSpPr/>
          <p:nvPr/>
        </p:nvSpPr>
        <p:spPr>
          <a:xfrm>
            <a:off x="6072120" y="1785960"/>
            <a:ext cx="2286000" cy="714240"/>
          </a:xfrm>
          <a:prstGeom prst="rect">
            <a:avLst/>
          </a:prstGeom>
          <a:solidFill>
            <a:srgbClr val="00664d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B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ttangolo 37"/>
          <p:cNvSpPr/>
          <p:nvPr/>
        </p:nvSpPr>
        <p:spPr>
          <a:xfrm>
            <a:off x="218520" y="5072040"/>
            <a:ext cx="67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Wingdings 2"/>
                <a:ea typeface="Wingdings 2"/>
              </a:rPr>
              <a:t>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CasellaDiTesto 44"/>
          <p:cNvSpPr/>
          <p:nvPr/>
        </p:nvSpPr>
        <p:spPr>
          <a:xfrm>
            <a:off x="0" y="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assaggi di “stato”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CasellaDiTesto 16"/>
          <p:cNvSpPr/>
          <p:nvPr/>
        </p:nvSpPr>
        <p:spPr>
          <a:xfrm>
            <a:off x="4429080" y="321480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R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Connettore 2 43"/>
          <p:cNvCxnSpPr/>
          <p:nvPr/>
        </p:nvCxnSpPr>
        <p:spPr>
          <a:xfrm>
            <a:off x="5285880" y="5428800"/>
            <a:ext cx="7153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920" y="322200"/>
            <a:ext cx="7788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nsiderazione sulle esperienze di riutilizzo (CR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5840" y="2017800"/>
            <a:ext cx="47037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venienza economica e ambientale del riutilizzo rispetto al ricic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nalisi dei flussi dei  rifiuti in alcuni centri di raccolta del centro Italia; rilevata la presenza significativa di rifiuti riusab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uddivisione di tali rifiuti in categorie merceolog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141520" y="2017800"/>
            <a:ext cx="38084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zioni di standard di qu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mozione di economie sociali e valorizzazione di competenze collegate alle funzioni di pulizia, riparazione, ripristino, upgrade dei beni (rigattier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ttrazione alla gestione di flussi e costi impropri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egnaposto data 4"/>
          <p:cNvSpPr/>
          <p:nvPr/>
        </p:nvSpPr>
        <p:spPr>
          <a:xfrm>
            <a:off x="914400" y="6324480"/>
            <a:ext cx="19000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2/10/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SISTEMATIZZAZIONE CONCETTUAL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atego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b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ggettis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rtac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upporti music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teriali riusab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gno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drosanit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erram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format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ndicatori di qu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Tahoma"/>
              </a:rPr>
              <a:t>Buono stat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 merci dotate di valore di mercato così come so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Tahoma"/>
              </a:rPr>
              <a:t>Medio stat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 merci riparabili, restaurabili o bisognose di una drastica igienizz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Tahoma"/>
              </a:rPr>
              <a:t>Cattivo stat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 merci non recuperabili ma fonti di componenti uti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Tahoma"/>
              </a:rPr>
              <a:t>Pessimo stat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 merci inutilizzabili, nemmeno nella componentistic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Segnaposto data 6"/>
          <p:cNvSpPr/>
          <p:nvPr/>
        </p:nvSpPr>
        <p:spPr>
          <a:xfrm>
            <a:off x="914400" y="6324480"/>
            <a:ext cx="19000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2/10/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7066080" cy="5286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35"/>
          <p:cNvSpPr/>
          <p:nvPr/>
        </p:nvSpPr>
        <p:spPr>
          <a:xfrm>
            <a:off x="5786280" y="5357880"/>
            <a:ext cx="5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Wingdings 2"/>
                <a:ea typeface="Wingdings 2"/>
              </a:rPr>
              <a:t>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ttangolo 36"/>
          <p:cNvSpPr/>
          <p:nvPr/>
        </p:nvSpPr>
        <p:spPr>
          <a:xfrm>
            <a:off x="6290640" y="3357720"/>
            <a:ext cx="67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Wingdings 2"/>
                <a:ea typeface="Wingdings 2"/>
              </a:rPr>
              <a:t>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ttangolo 37"/>
          <p:cNvSpPr/>
          <p:nvPr/>
        </p:nvSpPr>
        <p:spPr>
          <a:xfrm>
            <a:off x="6241680" y="3929040"/>
            <a:ext cx="68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CasellaDiTesto 5"/>
          <p:cNvSpPr/>
          <p:nvPr/>
        </p:nvSpPr>
        <p:spPr>
          <a:xfrm rot="17280000">
            <a:off x="2857680" y="3416760"/>
            <a:ext cx="12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Rizzo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C:\Programmi\Microsoft Office\MEDIA\CAGCAT10\j0212957.wmf"/>
          <p:cNvPicPr/>
          <p:nvPr/>
        </p:nvPicPr>
        <p:blipFill>
          <a:blip r:embed="rId2"/>
          <a:stretch/>
        </p:blipFill>
        <p:spPr>
          <a:xfrm rot="17441400">
            <a:off x="3556440" y="2415600"/>
            <a:ext cx="48744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Titolo 1"/>
          <p:cNvSpPr/>
          <p:nvPr/>
        </p:nvSpPr>
        <p:spPr>
          <a:xfrm>
            <a:off x="0" y="274680"/>
            <a:ext cx="91440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L’IPOTESI PROGETTU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gneluttiS</cp:lastModifiedBy>
  <cp:lastPrinted>2009-10-23T06:49:35Z</cp:lastPrinted>
  <dcterms:modified xsi:type="dcterms:W3CDTF">2009-10-28T07:30:26Z</dcterms:modified>
  <cp:revision>116</cp:revision>
  <dc:subject/>
  <dc:title>Presentazione di PowerPoint</dc:title>
</cp:coreProperties>
</file>