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6995-90B1-4992-8F89-A45B81A3D64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06CE-E482-4548-A0B2-A7394C6066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DBBF1CB-F2FD-4F4C-8A1F-56706E027D8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702-9AA7-4EA1-BC85-9BAC3A0C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4D8-2B5A-48E0-A325-DB3104BC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4F6-54CE-4D45-88B5-04240CB7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AEA-36DC-456D-AD7C-52977959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E23-0278-4B02-AC05-74CF2DA4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0FC-2333-4D12-9549-5228601C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2702-1327-4BFB-8647-8F5EB0DF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AFC-7077-421A-8729-FC9DC39E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B46-5FE7-467F-B61C-78A40111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DDD-9AEE-4083-BBD0-D8EC880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F71-B300-46C4-8172-C2E62C73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8E6-5B5B-4812-8E23-FA690EBA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6DF6-3DC5-4057-B9D4-A9B718947DE1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A041-3C0F-4993-AD7B-1D53D6867C6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mailto:egiulia.difava@libero.it" TargetMode="Externa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mailto:egiulia.difava@libero.it" TargetMode="Externa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2"/>
          <p:cNvSpPr/>
          <p:nvPr/>
        </p:nvSpPr>
        <p:spPr>
          <a:xfrm>
            <a:off x="571680" y="52862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minari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“La gestione dei rifiuti, tra pianificazione e scelte gestionali”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ala Ajace, Palazzo Comunale - UDINE  28 Ottobre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380880" y="617220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                                                 e-mail egiulia.difava@libe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9921-C3B2-40E0-96CB-DC1DB22FF12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5"/>
          <p:cNvSpPr/>
          <p:nvPr/>
        </p:nvSpPr>
        <p:spPr>
          <a:xfrm>
            <a:off x="4286160" y="2071800"/>
            <a:ext cx="4000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.L. 135/2009 IN HOUSE E SOCIETA’ MIS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UOVI SCENARI PER LE SOCIETA’  DI SERVIZI PUBBLICI LO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vv. Emilia Giulia Di Fa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85840" y="357120"/>
            <a:ext cx="1143000" cy="523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U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.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RT. 23 - 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sellaDiTesto 2"/>
          <p:cNvSpPr/>
          <p:nvPr/>
        </p:nvSpPr>
        <p:spPr>
          <a:xfrm>
            <a:off x="1785960" y="428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CONFERIMENTO   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tangolo 3"/>
          <p:cNvSpPr/>
          <p:nvPr/>
        </p:nvSpPr>
        <p:spPr>
          <a:xfrm>
            <a:off x="4929120" y="357120"/>
            <a:ext cx="3000600" cy="4287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 VIA 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sellaDiTesto 4"/>
          <p:cNvSpPr/>
          <p:nvPr/>
        </p:nvSpPr>
        <p:spPr>
          <a:xfrm>
            <a:off x="1500120" y="157176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sellaDiTesto 5"/>
          <p:cNvSpPr/>
          <p:nvPr/>
        </p:nvSpPr>
        <p:spPr>
          <a:xfrm>
            <a:off x="2428920" y="16430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 SOCIETA’  A PARTECIPAZIONE MISTA PUBBLICA E PRI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Connettore 2 6"/>
          <p:cNvCxnSpPr/>
          <p:nvPr/>
        </p:nvCxnSpPr>
        <p:spPr>
          <a:xfrm flipH="1">
            <a:off x="4357080" y="2071440"/>
            <a:ext cx="108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CasellaDiTesto 7"/>
          <p:cNvSpPr/>
          <p:nvPr/>
        </p:nvSpPr>
        <p:spPr>
          <a:xfrm>
            <a:off x="4500720" y="3857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ARA U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onnettore 1 8"/>
          <p:cNvSpPr/>
          <p:nvPr/>
        </p:nvSpPr>
        <p:spPr>
          <a:xfrm>
            <a:off x="4286160" y="2643120"/>
            <a:ext cx="0" cy="32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9"/>
          <p:cNvSpPr/>
          <p:nvPr/>
        </p:nvSpPr>
        <p:spPr>
          <a:xfrm>
            <a:off x="6929280" y="371484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ELTA S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10"/>
          <p:cNvSpPr/>
          <p:nvPr/>
        </p:nvSpPr>
        <p:spPr>
          <a:xfrm>
            <a:off x="6858000" y="407196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TTRIBUZIONE 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alibri"/>
              </a:rPr>
              <a:t>DE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MPITI OPERATIVI CONNESSI ALLA GESTIONE DEL SERV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Connettore 2 12"/>
          <p:cNvCxnSpPr/>
          <p:nvPr/>
        </p:nvCxnSpPr>
        <p:spPr>
          <a:xfrm flipV="1">
            <a:off x="6286320" y="3785760"/>
            <a:ext cx="64332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Connettore 2 14"/>
          <p:cNvCxnSpPr/>
          <p:nvPr/>
        </p:nvCxnSpPr>
        <p:spPr>
          <a:xfrm>
            <a:off x="6286320" y="4000320"/>
            <a:ext cx="5720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9" name="CasellaDiTesto 16"/>
          <p:cNvSpPr/>
          <p:nvPr/>
        </p:nvSpPr>
        <p:spPr>
          <a:xfrm>
            <a:off x="1643040" y="28576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NDIZIONI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egnaposto numero diapositiva 18"/>
          <p:cNvSpPr/>
          <p:nvPr/>
        </p:nvSpPr>
        <p:spPr>
          <a:xfrm>
            <a:off x="6572160" y="62866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E244-C7C1-4E4B-83C8-1DB0DCFCD4EE}" type="slidenum">
              <a:rPr b="1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28760" y="614376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sellaDiTesto 19"/>
          <p:cNvSpPr/>
          <p:nvPr/>
        </p:nvSpPr>
        <p:spPr>
          <a:xfrm>
            <a:off x="4572000" y="23572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- SELEZIONE SOCIO CON PROCEDURA AD EVIDENZA PUB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sellaDiTesto 20"/>
          <p:cNvSpPr/>
          <p:nvPr/>
        </p:nvSpPr>
        <p:spPr>
          <a:xfrm>
            <a:off x="4500720" y="3214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- RISPETTO DEI PRINCIPI DI CUI ALLA lett.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22"/>
          <p:cNvSpPr/>
          <p:nvPr/>
        </p:nvSpPr>
        <p:spPr>
          <a:xfrm>
            <a:off x="4429080" y="52862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- PARTECIPAZIONE SOCIO NON &lt;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CasellaDiTesto 1"/>
          <p:cNvSpPr/>
          <p:nvPr/>
        </p:nvSpPr>
        <p:spPr>
          <a:xfrm>
            <a:off x="1785960" y="428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CONFERIMENTO   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ttangolo 2"/>
          <p:cNvSpPr/>
          <p:nvPr/>
        </p:nvSpPr>
        <p:spPr>
          <a:xfrm>
            <a:off x="4786200" y="357120"/>
            <a:ext cx="3000600" cy="4287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 DER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42920" y="285840"/>
            <a:ext cx="1143000" cy="592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UOVO C. 3  ART. 23 - 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e 4"/>
          <p:cNvSpPr/>
          <p:nvPr/>
        </p:nvSpPr>
        <p:spPr>
          <a:xfrm>
            <a:off x="1357200" y="1428840"/>
            <a:ext cx="2428920" cy="13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FFIDAMENTO IN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Connettore 2 8"/>
          <p:cNvCxnSpPr/>
          <p:nvPr/>
        </p:nvCxnSpPr>
        <p:spPr>
          <a:xfrm>
            <a:off x="3857400" y="1999800"/>
            <a:ext cx="286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CasellaDiTesto 9"/>
          <p:cNvSpPr/>
          <p:nvPr/>
        </p:nvSpPr>
        <p:spPr>
          <a:xfrm>
            <a:off x="4143240" y="1357200"/>
            <a:ext cx="3143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PER SITUAZIONI ECCEZIONA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PARTICOLARI CARATTERISTICH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DEL CONTESTO TERRITORIALE DI RIFERIM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CASI CHE NON PERMETTONO UN </a:t>
            </a:r>
            <a:r>
              <a:rPr b="1" lang="it-IT" sz="1500" spc="-1" strike="noStrike" u="sng">
                <a:solidFill>
                  <a:srgbClr val="000000"/>
                </a:solidFill>
                <a:uFillTx/>
                <a:latin typeface="Calibri"/>
              </a:rPr>
              <a:t>EFFICACE</a:t>
            </a: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 ED </a:t>
            </a:r>
            <a:r>
              <a:rPr b="1" lang="it-IT" sz="15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 RICORSO AL MERCA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A FAVORE DI</a:t>
            </a:r>
            <a:r>
              <a:rPr b="1" lang="it-IT" sz="1500" spc="-1" strike="noStrike" u="sng">
                <a:solidFill>
                  <a:srgbClr val="000000"/>
                </a:solidFill>
                <a:uFillTx/>
                <a:latin typeface="Calibri"/>
              </a:rPr>
              <a:t> SOCIETA’</a:t>
            </a: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500" spc="-1" strike="noStrike" u="sng">
                <a:solidFill>
                  <a:srgbClr val="000000"/>
                </a:solidFill>
                <a:uFillTx/>
                <a:latin typeface="Calibri"/>
              </a:rPr>
              <a:t>100% PUBBLICHE </a:t>
            </a: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 C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 u="sng">
                <a:solidFill>
                  <a:srgbClr val="000000"/>
                </a:solidFill>
                <a:uFillTx/>
                <a:latin typeface="Calibri"/>
              </a:rPr>
              <a:t>REQUISITI COMUNITARI </a:t>
            </a: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“IN HOUSE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Connettore 2 12"/>
          <p:cNvCxnSpPr/>
          <p:nvPr/>
        </p:nvCxnSpPr>
        <p:spPr>
          <a:xfrm flipH="1">
            <a:off x="5643000" y="4785840"/>
            <a:ext cx="10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CasellaDiTesto 13"/>
          <p:cNvSpPr/>
          <p:nvPr/>
        </p:nvSpPr>
        <p:spPr>
          <a:xfrm>
            <a:off x="4429080" y="57862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NTROLLO ANA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EVALENZA DELL’ATTIVIT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sellaDiTesto 14"/>
          <p:cNvSpPr/>
          <p:nvPr/>
        </p:nvSpPr>
        <p:spPr>
          <a:xfrm>
            <a:off x="7286760" y="1714680"/>
            <a:ext cx="1857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Economi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Socia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Ambienta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Geomorfologi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AB6D-E078-474E-92E4-0AD39F9E66EA}" type="slidenum">
              <a:rPr b="1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074"/>
          <p:cNvSpPr/>
          <p:nvPr/>
        </p:nvSpPr>
        <p:spPr>
          <a:xfrm>
            <a:off x="285840" y="357120"/>
            <a:ext cx="1214280" cy="564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UO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.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T. 23 – 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sellaDiTesto 2"/>
          <p:cNvSpPr/>
          <p:nvPr/>
        </p:nvSpPr>
        <p:spPr>
          <a:xfrm>
            <a:off x="2000160" y="928800"/>
            <a:ext cx="6429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ei casi di cui al comma 3, l’ente affidante deve dare adeguata pubblicità alla scelta, motivandola in base ad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’analisi del mercat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 contestualmente trasmettere una relazione contenente gli esiti della predetta verific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l’Autorità garante della concorrenza e del mercato per l’espressione di un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arere preventiv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da rendere entro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ssanta gior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dalla ricezione della predetta rela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corso il termine,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l parere, se non reso, si intende espresso in senso favorev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Connettore 2 4"/>
          <p:cNvCxnSpPr/>
          <p:nvPr/>
        </p:nvCxnSpPr>
        <p:spPr>
          <a:xfrm flipH="1">
            <a:off x="5071680" y="4214520"/>
            <a:ext cx="2160" cy="5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" name="CasellaDiTesto 5"/>
          <p:cNvSpPr/>
          <p:nvPr/>
        </p:nvSpPr>
        <p:spPr>
          <a:xfrm>
            <a:off x="2643120" y="5072040"/>
            <a:ext cx="49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ZIONE DEL  PRINCIPIO DEL SILENZIO ASS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357120" y="6286680"/>
            <a:ext cx="822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egnaposto numero diapositiv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6938-3299-465D-90D9-95126B53343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CasellaDiTesto 1"/>
          <p:cNvSpPr/>
          <p:nvPr/>
        </p:nvSpPr>
        <p:spPr>
          <a:xfrm>
            <a:off x="2214720" y="1285920"/>
            <a:ext cx="60721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’Autorità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arante della concorrenza e del mercato, in forza dell’autonomia organizzativa e funzionale attribuita dalla legge 10 ottobre 1990, n. 287, e successive modificazioni,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vidu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con propria delibe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e soglie oltre le quali gli affidamenti di servizi pubblici locali assumono rilevanza ai fini dell’espressione del parere di cui al comm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074"/>
          <p:cNvSpPr/>
          <p:nvPr/>
        </p:nvSpPr>
        <p:spPr>
          <a:xfrm>
            <a:off x="214200" y="214200"/>
            <a:ext cx="1143000" cy="564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U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 –b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T.    23 - 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357120" y="6429240"/>
            <a:ext cx="822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923C-996E-49F2-A0F4-EBBB168EA71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1"/>
          <p:cNvSpPr/>
          <p:nvPr/>
        </p:nvSpPr>
        <p:spPr>
          <a:xfrm>
            <a:off x="1285920" y="2500200"/>
            <a:ext cx="6786360" cy="64260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HE  AL  REGIME  TRANSITORIO  DEGLI AFFID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80880" y="6172200"/>
            <a:ext cx="822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8AA5-9C5F-44EE-876A-6C539F6AA85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2"/>
          <p:cNvSpPr/>
          <p:nvPr/>
        </p:nvSpPr>
        <p:spPr>
          <a:xfrm>
            <a:off x="1571760" y="928800"/>
            <a:ext cx="721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me transitori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gli affidamenti non conformi a quanto stabilito ai commi 2 e 3 è il segu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 gestioni in essere alla data del 22 agosto 2008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affidate conformemente ai principi comunitari in materia di in house cessano,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mprorogabilmente e senza necessità di deliberazione da parte dell’ente affidante, alla data de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icembre 20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074"/>
          <p:cNvSpPr/>
          <p:nvPr/>
        </p:nvSpPr>
        <p:spPr>
          <a:xfrm>
            <a:off x="214200" y="357120"/>
            <a:ext cx="1285920" cy="564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U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. 8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T .  23 – 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380880" y="6172200"/>
            <a:ext cx="822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3A08-C0A4-4053-ABF8-8450C5094F7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asellaDiTesto 1"/>
          <p:cNvSpPr/>
          <p:nvPr/>
        </p:nvSpPr>
        <p:spPr>
          <a:xfrm>
            <a:off x="857160" y="857160"/>
            <a:ext cx="792972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le gestioni affidate direttamente a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ocietà a partecipazione mista pubblica e privata,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qualora la selezione del socio sia avvenuta mediante procedure competitive ad evidenza pubblica, nel rispetto dei principi di cui alla lettera a) del comma 2, le quali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on abbiano avuto ad oggetto, al tempo stesso, la qualità di socio e l’attribuzione dei compiti operativi connessi alla gestione del servizio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essano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improrogabilmente e senza necessità di apposita deliberazione dell’ente affidante,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alla data de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 dicembre 2011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8269-105E-4EDC-8D82-0D037C528EA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asellaDiTesto 1"/>
          <p:cNvSpPr/>
          <p:nvPr/>
        </p:nvSpPr>
        <p:spPr>
          <a:xfrm>
            <a:off x="1214280" y="1000080"/>
            <a:ext cx="771552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le gestioni affidate direttamente a società a  partecipazione mista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pubblica e privata, qualora la selezione del socio sia avvenuta mediante procedure competitive ad evidenza pubblica, nel rispetto dei principi di cui alla lettera a) del comma 2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e quali abbiano avuto ad oggetto, al tempo stesso, la qualità di socio e l’attribuzione dei compiti operativi connessi alla gestione del servizio, cessano alla scadenza prevista nel contratto di servizi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80880" y="6172200"/>
            <a:ext cx="822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FA64-90E2-4517-BC59-47647A4B150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asellaDiTesto 1"/>
          <p:cNvSpPr/>
          <p:nvPr/>
        </p:nvSpPr>
        <p:spPr>
          <a:xfrm>
            <a:off x="214200" y="285840"/>
            <a:ext cx="86439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gli affidamenti diretti assentiti alla data de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° ottobre 2003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 società a partecipazione pubblic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già quotate in bors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 tale dat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a quelle da esse controllate ai sensi dell’art. 2359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.C.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essano alla scadenza prevista nel contratto di servizio, a condizione che la partecipazione pubblica si riduca anche progressivamente, attraverso procedure ad evidenza pubblica ovvero forme di collocamento privato presso investitori qualificati e operatori industriali,  ad una quota non superiore al 30 % entro il 31 dicembre 20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n caso contrario, gli affidamenti cessano, improrogabilmente e senza necessità di apposita deliberazione dell’ente affidante, alla data del 31 dicembre 20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FF08-E7B0-45B6-97A7-E4502D3C3A0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ttangolo 1"/>
          <p:cNvSpPr/>
          <p:nvPr/>
        </p:nvSpPr>
        <p:spPr>
          <a:xfrm>
            <a:off x="1643040" y="2000160"/>
            <a:ext cx="635796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)   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le gestioni affidate che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non rientrano nei casi di cui alle lettere precedenti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essano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comunqu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ntro  e non oltre la data del 31 dicembre 2010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,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senza necessità di apposita deliberazione dell’ente affid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EEC6-95BE-4111-8496-C6DC8F8936F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ttangolo 1"/>
          <p:cNvSpPr/>
          <p:nvPr/>
        </p:nvSpPr>
        <p:spPr>
          <a:xfrm>
            <a:off x="2143080" y="1285920"/>
            <a:ext cx="6715080" cy="1214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NUOVA DISCIPLINA DELLA GESTIONE SPL DI RILEVANZA ECONOMICA A SEGUITO DELLE MODIFICHE DELL’ART. 23 – bis L.133/2008 INTRODOTTE DAL D.L. 25 Settembre  2009, ART.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2"/>
          <p:cNvSpPr/>
          <p:nvPr/>
        </p:nvSpPr>
        <p:spPr>
          <a:xfrm>
            <a:off x="2143080" y="2857680"/>
            <a:ext cx="6715080" cy="785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L NUOVO MODELLO DI GESTIONE SPL IN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tangolo 3"/>
          <p:cNvSpPr/>
          <p:nvPr/>
        </p:nvSpPr>
        <p:spPr>
          <a:xfrm>
            <a:off x="2143080" y="4071960"/>
            <a:ext cx="6715080" cy="785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L NUOVO MODELLO DI GESTIONE SPL TRAMITE SOCIETA’ M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6"/>
          <p:cNvSpPr/>
          <p:nvPr/>
        </p:nvSpPr>
        <p:spPr>
          <a:xfrm>
            <a:off x="428760" y="1571760"/>
            <a:ext cx="1000080" cy="785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7"/>
          <p:cNvSpPr/>
          <p:nvPr/>
        </p:nvSpPr>
        <p:spPr>
          <a:xfrm>
            <a:off x="428760" y="2857680"/>
            <a:ext cx="1000080" cy="785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9"/>
          <p:cNvSpPr/>
          <p:nvPr/>
        </p:nvSpPr>
        <p:spPr>
          <a:xfrm>
            <a:off x="428760" y="4071960"/>
            <a:ext cx="1000080" cy="785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80880" y="617220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                                                 e-mail egiulia.difava@libe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11"/>
          <p:cNvSpPr/>
          <p:nvPr/>
        </p:nvSpPr>
        <p:spPr>
          <a:xfrm>
            <a:off x="6338880" y="6141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842-4F1F-4BCC-8B97-961F3CCD5226}" type="slidenum">
              <a:rPr b="1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sellaDiTesto 14"/>
          <p:cNvSpPr/>
          <p:nvPr/>
        </p:nvSpPr>
        <p:spPr>
          <a:xfrm>
            <a:off x="1643040" y="357120"/>
            <a:ext cx="5643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CADENZIARIO AFFID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sellaDiTesto 15"/>
          <p:cNvSpPr/>
          <p:nvPr/>
        </p:nvSpPr>
        <p:spPr>
          <a:xfrm>
            <a:off x="142920" y="150012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sellaDiTesto 17"/>
          <p:cNvSpPr/>
          <p:nvPr/>
        </p:nvSpPr>
        <p:spPr>
          <a:xfrm>
            <a:off x="357120" y="150012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CADENZA PREVISTA 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18"/>
          <p:cNvSpPr/>
          <p:nvPr/>
        </p:nvSpPr>
        <p:spPr>
          <a:xfrm>
            <a:off x="2857680" y="1500120"/>
            <a:ext cx="2428560" cy="3070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TRATTO DI SERVIZ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20"/>
          <p:cNvSpPr/>
          <p:nvPr/>
        </p:nvSpPr>
        <p:spPr>
          <a:xfrm>
            <a:off x="6000840" y="857160"/>
            <a:ext cx="292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FF. A SOC. MISTE                     A SEGUITO DI GARA UNICA SCELTA PARTNER – AFF. DEI COMPITI OPERA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sellaDiTesto 21"/>
          <p:cNvSpPr/>
          <p:nvPr/>
        </p:nvSpPr>
        <p:spPr>
          <a:xfrm>
            <a:off x="6000840" y="2071800"/>
            <a:ext cx="2928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FF. ASSENTITI AL 1° ottobre 2003 A SOC. A PART. PUBBL. GIA’ QUOTATE IN BORSA E A QUELLE DA ESSE CONTRO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sellaDiTesto 22"/>
          <p:cNvSpPr/>
          <p:nvPr/>
        </p:nvSpPr>
        <p:spPr>
          <a:xfrm>
            <a:off x="6786720" y="33577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COND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sellaDiTesto 25"/>
          <p:cNvSpPr/>
          <p:nvPr/>
        </p:nvSpPr>
        <p:spPr>
          <a:xfrm>
            <a:off x="6000840" y="364320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 LA PART. PUBBL. SI RIDUCA PROGR. A NON &gt; 3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sellaDiTesto 26"/>
          <p:cNvSpPr/>
          <p:nvPr/>
        </p:nvSpPr>
        <p:spPr>
          <a:xfrm>
            <a:off x="142920" y="471492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asellaDiTesto 27"/>
          <p:cNvSpPr/>
          <p:nvPr/>
        </p:nvSpPr>
        <p:spPr>
          <a:xfrm>
            <a:off x="357120" y="471492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CADENZA  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sellaDiTesto 28"/>
          <p:cNvSpPr/>
          <p:nvPr/>
        </p:nvSpPr>
        <p:spPr>
          <a:xfrm>
            <a:off x="1928880" y="4714920"/>
            <a:ext cx="2071800" cy="3070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1 DICEMBRE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sellaDiTesto 29"/>
          <p:cNvSpPr/>
          <p:nvPr/>
        </p:nvSpPr>
        <p:spPr>
          <a:xfrm>
            <a:off x="4714920" y="4572000"/>
            <a:ext cx="414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FF.  ASSENTITI AL 1° ott. 2003 A SOC. A PART. PUBBL. GIA’ QUOTATE IN BORSA E A QUELLE DA ESSE CONTRO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sellaDiTesto 30"/>
          <p:cNvSpPr/>
          <p:nvPr/>
        </p:nvSpPr>
        <p:spPr>
          <a:xfrm>
            <a:off x="4786200" y="5572080"/>
            <a:ext cx="364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SE NON SI AVVERA LA CONDIZIONE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LA DISMISSIONE CON PART. PUBBL. NON &gt; 3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31"/>
          <p:cNvSpPr/>
          <p:nvPr/>
        </p:nvSpPr>
        <p:spPr>
          <a:xfrm>
            <a:off x="5357880" y="1428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32"/>
          <p:cNvSpPr/>
          <p:nvPr/>
        </p:nvSpPr>
        <p:spPr>
          <a:xfrm>
            <a:off x="4000680" y="47149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Connettore 2 34"/>
          <p:cNvCxnSpPr>
            <a:stCxn id="187" idx="3"/>
            <a:endCxn id="178" idx="1"/>
          </p:cNvCxnSpPr>
          <p:nvPr/>
        </p:nvCxnSpPr>
        <p:spPr>
          <a:xfrm flipV="1">
            <a:off x="5643720" y="1333080"/>
            <a:ext cx="3578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Connettore 2 36"/>
          <p:cNvCxnSpPr/>
          <p:nvPr/>
        </p:nvCxnSpPr>
        <p:spPr>
          <a:xfrm>
            <a:off x="5715000" y="1714320"/>
            <a:ext cx="2865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Connettore 2 40"/>
          <p:cNvCxnSpPr/>
          <p:nvPr/>
        </p:nvCxnSpPr>
        <p:spPr>
          <a:xfrm flipH="1">
            <a:off x="7500600" y="30718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Connettore 2 46"/>
          <p:cNvCxnSpPr/>
          <p:nvPr/>
        </p:nvCxnSpPr>
        <p:spPr>
          <a:xfrm>
            <a:off x="4357440" y="4928760"/>
            <a:ext cx="286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Connettore 2 48"/>
          <p:cNvCxnSpPr/>
          <p:nvPr/>
        </p:nvCxnSpPr>
        <p:spPr>
          <a:xfrm flipH="1">
            <a:off x="6286320" y="528804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CasellaDiTesto 49"/>
          <p:cNvSpPr/>
          <p:nvPr/>
        </p:nvSpPr>
        <p:spPr>
          <a:xfrm>
            <a:off x="5786280" y="85716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50"/>
          <p:cNvSpPr/>
          <p:nvPr/>
        </p:nvSpPr>
        <p:spPr>
          <a:xfrm>
            <a:off x="5786280" y="21430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82E4-A401-451F-8DBC-4E77091C5D5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28760" y="628668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sellaDiTesto 11"/>
          <p:cNvSpPr/>
          <p:nvPr/>
        </p:nvSpPr>
        <p:spPr>
          <a:xfrm>
            <a:off x="357120" y="135720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sellaDiTesto 12"/>
          <p:cNvSpPr/>
          <p:nvPr/>
        </p:nvSpPr>
        <p:spPr>
          <a:xfrm>
            <a:off x="571680" y="135720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CADENZA 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sellaDiTesto 13"/>
          <p:cNvSpPr/>
          <p:nvPr/>
        </p:nvSpPr>
        <p:spPr>
          <a:xfrm>
            <a:off x="2000160" y="1357200"/>
            <a:ext cx="214308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31 DICEMBRE 20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asellaDiTesto 14"/>
          <p:cNvSpPr/>
          <p:nvPr/>
        </p:nvSpPr>
        <p:spPr>
          <a:xfrm>
            <a:off x="5429160" y="785880"/>
            <a:ext cx="29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FF.  IN HOUSE IN ESSERE AL 22 Agosto 2008, CONFORMI AI PRINCIPI COMUNIT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asellaDiTesto 15"/>
          <p:cNvSpPr/>
          <p:nvPr/>
        </p:nvSpPr>
        <p:spPr>
          <a:xfrm>
            <a:off x="5500800" y="1857240"/>
            <a:ext cx="2928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FF. A SOC. MISTE A SEGUITO DI GARA SOLO PER SCELTA SOCIO E NON ANCHE PER ATTRIBUZIONE ALLO STESSO DEI COMPITI OPERA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asellaDiTesto 16"/>
          <p:cNvSpPr/>
          <p:nvPr/>
        </p:nvSpPr>
        <p:spPr>
          <a:xfrm>
            <a:off x="571680" y="421488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asellaDiTesto 17"/>
          <p:cNvSpPr/>
          <p:nvPr/>
        </p:nvSpPr>
        <p:spPr>
          <a:xfrm>
            <a:off x="785880" y="421488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CADENZA 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sellaDiTesto 18"/>
          <p:cNvSpPr/>
          <p:nvPr/>
        </p:nvSpPr>
        <p:spPr>
          <a:xfrm>
            <a:off x="2214720" y="4214880"/>
            <a:ext cx="214308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31 DICEMBRE 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asellaDiTesto 19"/>
          <p:cNvSpPr/>
          <p:nvPr/>
        </p:nvSpPr>
        <p:spPr>
          <a:xfrm>
            <a:off x="5715000" y="421488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ER TUTTI GLI ALTRI C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sellaDiTesto 20"/>
          <p:cNvSpPr/>
          <p:nvPr/>
        </p:nvSpPr>
        <p:spPr>
          <a:xfrm>
            <a:off x="4286160" y="13572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sellaDiTesto 21"/>
          <p:cNvSpPr/>
          <p:nvPr/>
        </p:nvSpPr>
        <p:spPr>
          <a:xfrm>
            <a:off x="4500720" y="421488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Connettore 2 25"/>
          <p:cNvCxnSpPr/>
          <p:nvPr/>
        </p:nvCxnSpPr>
        <p:spPr>
          <a:xfrm flipV="1">
            <a:off x="4714920" y="1142640"/>
            <a:ext cx="35784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Connettore 2 27"/>
          <p:cNvCxnSpPr/>
          <p:nvPr/>
        </p:nvCxnSpPr>
        <p:spPr>
          <a:xfrm>
            <a:off x="4785120" y="1571760"/>
            <a:ext cx="35820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Connettore 2 29"/>
          <p:cNvCxnSpPr/>
          <p:nvPr/>
        </p:nvCxnSpPr>
        <p:spPr>
          <a:xfrm>
            <a:off x="4857480" y="442872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CasellaDiTesto 1"/>
          <p:cNvSpPr/>
          <p:nvPr/>
        </p:nvSpPr>
        <p:spPr>
          <a:xfrm>
            <a:off x="1285920" y="2500200"/>
            <a:ext cx="6786360" cy="64260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HE  AL REGIME DELLE LIMITAZIONI DEGLI AFFID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70C1-57FD-4EF2-B1EC-E2F886873A4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074"/>
          <p:cNvSpPr/>
          <p:nvPr/>
        </p:nvSpPr>
        <p:spPr>
          <a:xfrm>
            <a:off x="214200" y="500040"/>
            <a:ext cx="1071720" cy="579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UO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. 9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T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3 – 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sellaDiTesto 2"/>
          <p:cNvSpPr/>
          <p:nvPr/>
        </p:nvSpPr>
        <p:spPr>
          <a:xfrm>
            <a:off x="1357200" y="1143000"/>
            <a:ext cx="77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-   Le società, le loro controllate, controllanti e controllate da una medesima controllante,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anche non appartenenti a Stati membri dell’Unione europea, che, in Italia o all’estero, gestiscono di fatto, o per disposizioni di legge, di atto amministrativo o per contratto,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ervizi pubblici locali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virtù di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affidamento diretto, di una procedura non ad evidenza pubblica ovvero ai sensi del comma 2, lettera b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 soggetti cui è affidata la gestione delle reti, degli impianti e delle altre dotazioni patrimoniali degli enti locali, qualora separata dall’attività di erogazione dei serviz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57120" y="642924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D17B-77CD-41FB-AF9D-DC31F935877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CasellaDiTesto 1"/>
          <p:cNvSpPr/>
          <p:nvPr/>
        </p:nvSpPr>
        <p:spPr>
          <a:xfrm>
            <a:off x="785880" y="428760"/>
            <a:ext cx="76438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on posson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acquisire la gestione di servizi ulterior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ambiti territoriali div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volgere servizi o attività per altri enti pubblici o privati, né direttamente, né tramite   loro controllanti o altre società che siano da essi controllate o partecipate, né partecipando a ga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l divieto di cui al periodo precedente opera per tutta la durata della gestione 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on si applica alle società quotate in mercati regolamentati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 soggetti affidatari diretti di servizi pubblici locali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ossono comunque concorrere alla prima gara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volta per l’affidamento, mediante procedura competitiva ad evidenza pubblica, dello specifico servizio già a loro affida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egnaposto numero diapositiva 3"/>
          <p:cNvSpPr/>
          <p:nvPr/>
        </p:nvSpPr>
        <p:spPr>
          <a:xfrm>
            <a:off x="650088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C384-84C3-413E-AE15-7BDFFC890C7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074"/>
          <p:cNvSpPr/>
          <p:nvPr/>
        </p:nvSpPr>
        <p:spPr>
          <a:xfrm>
            <a:off x="285840" y="214200"/>
            <a:ext cx="1000080" cy="606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U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. 10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T .  23 – 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sellaDiTesto 2"/>
          <p:cNvSpPr/>
          <p:nvPr/>
        </p:nvSpPr>
        <p:spPr>
          <a:xfrm>
            <a:off x="1714680" y="428760"/>
            <a:ext cx="685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l Governo, su proposta del Ministro per i rapporti con le regioni ed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ntro il 31 dicembre 2009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sentita la Conferenza unificata di cui all’articolo 8 del D.Lgs. 28 agosto 1997, n. 281, e successive modificazioni, nonché le competenti Commissioni parlamentar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dott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o o più regolament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ai sensi dell’articolo 17, comma 2, L. 400, del 23 agosto 1988, al fine di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) 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eveder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’assoggettament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dei soggetti affidatar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n hous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i servizi pubblici locali a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atto di stabilità interno tenendo conto delle scadenze fissate al comma 8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 l’osservanza da parte dell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ocietà in hous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 delle società a partecipazion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ist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ubblica e privata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cedure ad evidenza pubblica per l’acquisto di beni e servizi e l’assunzione di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ADF6-E4B2-467D-AF08-911066F11B7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5A0C-4A07-45BE-8EA3-297414A66BE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ttangolo 2"/>
          <p:cNvSpPr/>
          <p:nvPr/>
        </p:nvSpPr>
        <p:spPr>
          <a:xfrm>
            <a:off x="2214720" y="2643120"/>
            <a:ext cx="6500520" cy="785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L NUOVO MODELLO DI GESTIONE SPL IN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ttangolo 3"/>
          <p:cNvSpPr/>
          <p:nvPr/>
        </p:nvSpPr>
        <p:spPr>
          <a:xfrm>
            <a:off x="500040" y="2714760"/>
            <a:ext cx="1000080" cy="785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428760" y="621504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EE3B-7014-444F-B08E-7E66E253CA2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914400" y="990720"/>
            <a:ext cx="7416720" cy="34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L CONCETTO DI AFFIDAMENTO “IN HOU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66680" y="1523880"/>
            <a:ext cx="1981440" cy="514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E.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066680" y="2467080"/>
            <a:ext cx="2032200" cy="542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OGGETTO G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3200400" y="1943280"/>
            <a:ext cx="3454560" cy="7426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FFIDAMENTO DIR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2057400" y="20574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80880" y="3314880"/>
            <a:ext cx="8356680" cy="25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REGOLA GENERALE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NECESSITA’ DI RISPETTARE I PRINCIPI COMUNIT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CONOMIA DI MERC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CORR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IBERA PRESTAZIONE DI SERV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ON DISCRIMIN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ARITA’ DI TRATT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RASPAR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33520" y="399960"/>
            <a:ext cx="7924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’AFFIDAMENTO “IN HOUSE” DEI SERVIZI PUBBLICI LOC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B685-5E58-4FDD-957A-8E56F6A49F1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4470480" y="457200"/>
            <a:ext cx="612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990720" y="2209680"/>
            <a:ext cx="739116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ECCEZIONE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FFIDAMENTO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DIRETT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DELLA GESTIONE DI UN SERVIZIO PUBBLICO DALL’ENTE LOCALE AL SOGGETTO GESTORE (AFF. “IN HOUSE”) IN PRESENZA D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CIRCOSTANZE  PARTICOLAR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CHE CONSENTONO DI NON RICORRERE ALLE PROCEDURE AD EVIDENZA PUBBLICA                          NECESSITA’ D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CONDIZIONI RIGOR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5"/>
          <p:cNvSpPr/>
          <p:nvPr/>
        </p:nvSpPr>
        <p:spPr>
          <a:xfrm>
            <a:off x="2438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272-6376-457A-9BE9-E569AB7ECD5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838080" y="83808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ASTRATTO L’AFFIDAMENTO DIRETTO POTREBBE VIOLARE IL PRINCIPIO DI CONCORR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2133720" y="2438280"/>
            <a:ext cx="541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OTTRAE AL LIBERO MERCATO QUOTE DI CONTRATTI PUBBLICI NEI CONFRONTI DEI QUALI LE IMPRESE ORDINARIE VENGONO ESCLUSE DA OGNI POSSIBILE ACC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219320" y="2514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213372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 COSTITUISCE UNA POSIZIONE DI PRIVILEGIO A FAVORE DELL’IMPRESA AFFIDATARIA, GARANTENDOLE L’ACQUISIZIONE DI CONTRA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295280" y="4038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267080" y="1447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6"/>
          <p:cNvSpPr/>
          <p:nvPr/>
        </p:nvSpPr>
        <p:spPr>
          <a:xfrm>
            <a:off x="380880" y="617220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80E-07B4-4413-A033-6C187A5213A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tangolo 5"/>
          <p:cNvSpPr/>
          <p:nvPr/>
        </p:nvSpPr>
        <p:spPr>
          <a:xfrm>
            <a:off x="2143080" y="2214720"/>
            <a:ext cx="6715080" cy="1285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NUOVA DISCIPLINA DELLA GESTIONE SPL DI RILEVANZA ECONOMICA A SEGUITO DELLE MODIFICHE DELL’ART. 23 – bis L.133/2008 INTRODOTTE DAL D.L. 25 Settembre  2009, ART.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6"/>
          <p:cNvSpPr/>
          <p:nvPr/>
        </p:nvSpPr>
        <p:spPr>
          <a:xfrm>
            <a:off x="428760" y="2500200"/>
            <a:ext cx="1000080" cy="785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67BB-EAAD-40B5-A84D-910BD1FAF5C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676520"/>
            <a:ext cx="266688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LL’ECCE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936960" y="1562040"/>
            <a:ext cx="444492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EI CONFRONTI DI UN SOGGETTO CONTROLLATO E CHE SVOLGA LA SUA PREVALENTE ATTIVITA’ PER IL SOGGETTO CONTROL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114800" y="2971800"/>
            <a:ext cx="355608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ON SONO RAVVISABILI SITUAZIONI  DI  PREGIUDI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666880" y="4114800"/>
            <a:ext cx="23623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ER LA PARITA’ DI TRATTAMENTO DEGLI ALTRI OPERATORI ECONOM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918040" y="4172040"/>
            <a:ext cx="2311560" cy="13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ER IL RISPETTO DELLE REGOLE DI CONCORR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6121440" y="3828960"/>
            <a:ext cx="406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 flipH="1">
            <a:off x="4698720" y="3828960"/>
            <a:ext cx="406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31240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2E94-B1A9-458F-949C-9F7CFC52934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015920" y="514440"/>
            <a:ext cx="7290000" cy="1542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NTENZA TECK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ECKAL /  COMUNE DI V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G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rte di Giustizia CE 18 novembre 1999,  causa C – 107/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219320" y="2590920"/>
            <a:ext cx="7213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PRENDE I PRINCIPI CHE GIUSTIFICANO L’ECCE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4724280" y="2057400"/>
            <a:ext cx="0" cy="51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62120" y="3048120"/>
            <a:ext cx="792468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Principio della legittimità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dell’affidamento diretto del servizio in presenza di requisiti per considerarlo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“ in house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artecipazione totalitaria pub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rollo da parte dell’Ente Locale analogo a quello esercitato sui propri serviz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arte più importante dell’attività della persona giuridicamente distinta nei confronti dell’Ente o degli Enti Locali che la controll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41CA-FDDE-47CE-BC48-BF6DC5EDEC8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ttangolo 2"/>
          <p:cNvSpPr/>
          <p:nvPr/>
        </p:nvSpPr>
        <p:spPr>
          <a:xfrm>
            <a:off x="1000080" y="2000160"/>
            <a:ext cx="7072200" cy="13575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POSIZIONE DELL’AUTORITA’ GAR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CONCORRENZA E DEL MER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NTI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A1B8-548E-45C2-9F6B-753884C9DE9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500040" y="428760"/>
            <a:ext cx="7896240" cy="4269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EGNALAZIONE DELL’A.G.C.M. (AS 468) DEL 4 Agosto 200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990720" y="1371600"/>
            <a:ext cx="7619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 HOUSE COME STRUMENTO IN DEROGA, AD USO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ESIDU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990720" y="2057400"/>
            <a:ext cx="7543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EGNALAZIONE DI SITUAZIONE D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FLITTO DI INTERESSE IN CAPO AGLI EE.P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362320" y="2895480"/>
            <a:ext cx="571500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 AFFIDATARI DEL S.P.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ZIONI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MMINISTRATORI DELLA SOC. DI GEST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ONENTI DEGLI ORGANISMI CHIAMATI A VIGILARE (V. AT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990720" y="5181480"/>
            <a:ext cx="2971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v. art. 23-bis, c. 10, lett. c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962520" y="5029200"/>
            <a:ext cx="4343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 REGOLAMENTI GOVERNATIVI DOVRANNO PREVEDERE ANCHE LA REVISIONE DELLA DISCIPLINA DELLE INCOMPATIBILIT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57200" y="1371600"/>
            <a:ext cx="304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457200" y="2057400"/>
            <a:ext cx="304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358128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36576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DA7F-9966-4351-9568-C6F121A916D8}" type="slidenum">
              <a:rPr b="0" lang="it-IT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609480"/>
            <a:ext cx="818676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UTORITA’ GARANTE DELLA CONCORRENZA E DEL MERCATO   COMUNICAZIONE SULLE PROCEDURE DI APPLICAZIONE  DELL’ART. 23-bis L. 133/2008 – 16 ottobr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7200" y="2209680"/>
            <a:ext cx="3200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MBITO DI APPL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857760" y="2214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4114800" y="22096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  DI  RILEVANZA  ECONO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4114800" y="335268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IZI AVENTI AD OGGETTO LA PRODUZIONE DI BENI ED ATTIVITA’ RIVOLTE A REALIZZARE FINI SOCIALI E A PROMUOVERE LO SVILUPPO ECONOMICO E CIVILE DELLE COMUNITA’ LOCALI, CON ESCLUSIONE DEI SERVIZI SOCIALI PRIVI DI CARATTERE IMPRENDITO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5715000" y="2666880"/>
            <a:ext cx="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5715000" y="2666880"/>
            <a:ext cx="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5943600" y="25146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5867280" y="26668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5638680" y="26668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59436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162A-E9AB-4CE4-950F-3632805F7872}" type="slidenum">
              <a:rPr b="0" lang="it-IT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0" y="357120"/>
            <a:ext cx="24289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LI DI    AFFIDAMENTO      S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448000" y="609480"/>
            <a:ext cx="4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714760" y="64296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 VIA ORD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5500800" y="53352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DURA COMPETITIVA AD EV. PUBB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428920" y="1357200"/>
            <a:ext cx="4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714760" y="135720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 DERO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5214960" y="1428840"/>
            <a:ext cx="414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 PRESENZA DI SITUAZIONI “PARTICOLARI” CHE NON PERMETTONO UN EFFICACE E UTILE RICORSO AL MERC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5072040" y="3357720"/>
            <a:ext cx="378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ISPETTO DISC. COMUNITARIA + ELEMENTI ULTERIORI   ( particolari caratteristiche ec., sociali, ecc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"/>
          <p:cNvSpPr/>
          <p:nvPr/>
        </p:nvSpPr>
        <p:spPr>
          <a:xfrm>
            <a:off x="4648320" y="5181480"/>
            <a:ext cx="231480" cy="55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4357800" y="5289120"/>
            <a:ext cx="4572000" cy="142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INALITA’ DI CIRCOSCRIVERE ULTERIORMENTE L’AFF. IN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4991040" y="795240"/>
            <a:ext cx="45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6"/>
          <p:cNvSpPr/>
          <p:nvPr/>
        </p:nvSpPr>
        <p:spPr>
          <a:xfrm>
            <a:off x="4214880" y="1643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4857840" y="14288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4572000" y="3429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9"/>
          <p:cNvSpPr/>
          <p:nvPr/>
        </p:nvSpPr>
        <p:spPr>
          <a:xfrm>
            <a:off x="6643800" y="4786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6"/>
          <p:cNvSpPr/>
          <p:nvPr/>
        </p:nvSpPr>
        <p:spPr>
          <a:xfrm>
            <a:off x="4786200" y="857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3584-606E-4E05-830D-0700467F331D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04920" y="533520"/>
            <a:ext cx="297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SENTAZIONE DELLA RICHIESTA DI PAR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191120" y="6094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TILIZZO FORMULARIO AUTORITA’ + DOC.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4071960" y="1214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A RICHIESTA VA INOLTRATA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MA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DELL’AFFIDAMENTO 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N TEMPO UTIL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R IL RILASCIO DEL PAR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214880" y="22860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ENTE DOVRA’ FORNIRE ALM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67080" y="31240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LAZIONE CON ESITI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NDAGINE DI MERCAT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CHE DIMOSTRI IN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ERMINI COMPARATIVI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LA CONVENIENZA DELL’AFF. DIR. / RISPETTO ALLA PROC. AD EV. PUBB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4214880" y="4500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DALITA’ DI PUBBLICIZZAZIONE DEGLI ELEMENTI DEL PUNTO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4286160" y="53578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CAZIONI SOGGETTIVE RELATIVE ALL’IMPRESA INTERESS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571920" y="3071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571920" y="450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524400" y="5357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3643200" y="571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643200" y="1357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71484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D553-25F9-4174-8081-845FCED51BAD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2514600" y="762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200400" y="685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ATI RELATIVI AL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IPO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 AL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ALOR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DEI SERVI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200400" y="129528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TTO COSTITUTIVO/ STATUTO/ INFORMAZIONI RELATIVE AL CAMPO DI ATTIVITA’ DELLA SOC. AFFIDA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3200400" y="24382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ARATTERISTICHE ECONOMICH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DEL SETTORE O DEL MERCATO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ALI DA GIUSTIFICARE L’AFF. IN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3200400" y="35053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CAZIONI IN MERITO AI PRINCIPALI CONCORR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3200400" y="41911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CAZIONI IN MERITOALLE EVENTUALI FORME DI FINANZIAMENTO / SUSSIDIO DELLE ATTIVITA’ OGGETTO DI AFFIDAMENTO E CONN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25909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259092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259092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97DC-C419-465D-9724-99CB3C67314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80880" y="914400"/>
            <a:ext cx="4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066680" y="91440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AUTORITA’ RILASCIA IL PARERE ENTRO 60 g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6400800" y="91440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ma può chiedere informazioni / completamento della document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380880" y="2666880"/>
            <a:ext cx="4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838080" y="26668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UNZION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SULTIVA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DELL’AUTORITA’   :     MA L’ENTE LOCAL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’ CHIAMATO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A TENER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LLA DOVUTA CONSIDERAZIONE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LE VALUTAZIONI ESPRESSE NEL PARERE DELL’AUTOR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A888-73E7-42C4-8D6F-5E86D05509B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214200" y="838080"/>
            <a:ext cx="2986200" cy="6426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HEMA DOMANDA  SU FORMUL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505320" y="838080"/>
            <a:ext cx="838080" cy="7855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200400" y="990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5029200" y="9144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DAGINE DI MERCATO E ANALISI COMPARATIVA SVO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105520" y="22096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LAZIONI TECNICHE SUL CONTESTO TERRITORIAL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5181480" y="3505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UTO E ATTO COSTITUTIVO SOCIE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419720" y="990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419720" y="2286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4956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2590920" y="4648320"/>
            <a:ext cx="4190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4038480" y="42670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286000" y="4952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ISTEMA “DISINCENTIVA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C74C-7ABB-42E8-AD15-2526F07A542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438280" y="762120"/>
            <a:ext cx="6019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SCIPLINA DELL’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AFFIDAMENT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 DELLA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GESTION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PL DI RILEVANZA ECONO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362320" y="1600200"/>
            <a:ext cx="6248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IN APPLICAZIONE DELLA DISCIPLINA COMUNI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438280" y="2286000"/>
            <a:ext cx="6019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HIAMO A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PRINCIPI COSTITUZIONAL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Art. 117, 2° c. C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438280" y="3124080"/>
            <a:ext cx="6172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EGISLAZIONE ESCLUSIVA DELLO STATO IN MATERIA D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590920" y="3657600"/>
            <a:ext cx="5790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ett. e) …… TUTELA DELLA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CONCORR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590920" y="4267080"/>
            <a:ext cx="914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ett.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733920" y="4267080"/>
            <a:ext cx="4800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TERMINAZIONE DE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LIVELLI ESSENZIAL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DELLE PRESTAZIONI CONCERNENTI I DIRITTI CIVILI E SOCIALI CHE DEVONO ESSERE GARANTITI SU TUTTO IL TERRITORIO NAZ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828800" y="838080"/>
            <a:ext cx="53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828800" y="1600200"/>
            <a:ext cx="53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828800" y="2286000"/>
            <a:ext cx="53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8006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571680" y="285840"/>
            <a:ext cx="1000080" cy="550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. 1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RT.  23 – bi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. 133/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ttangolo 2"/>
          <p:cNvSpPr/>
          <p:nvPr/>
        </p:nvSpPr>
        <p:spPr>
          <a:xfrm>
            <a:off x="357120" y="357120"/>
            <a:ext cx="8429760" cy="1100160"/>
          </a:xfrm>
          <a:prstGeom prst="rect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IMI PARERI RESI DALL’ AUTORITA’ GARANTE DELLA CONCORRENZA E DEL MERC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asellaDiTesto 5"/>
          <p:cNvSpPr/>
          <p:nvPr/>
        </p:nvSpPr>
        <p:spPr>
          <a:xfrm>
            <a:off x="500040" y="1785960"/>
            <a:ext cx="292896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E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TI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I NEL CORSO DE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sellaDiTesto 7"/>
          <p:cNvSpPr/>
          <p:nvPr/>
        </p:nvSpPr>
        <p:spPr>
          <a:xfrm>
            <a:off x="4357800" y="1857240"/>
            <a:ext cx="450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amministrazione pubblic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on ha dimostrato la sussistenza delle condizioni previste dal comma 3 dell’art. 23 bis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, quindi, delle ragioni che non permettono un efficace e utile ricorso al mercato per l’affidamento della gestione dei serviz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asellaDiTesto 8"/>
          <p:cNvSpPr/>
          <p:nvPr/>
        </p:nvSpPr>
        <p:spPr>
          <a:xfrm>
            <a:off x="3857760" y="185724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Connettore 2 12"/>
          <p:cNvCxnSpPr/>
          <p:nvPr/>
        </p:nvCxnSpPr>
        <p:spPr>
          <a:xfrm flipH="1">
            <a:off x="6428520" y="3785760"/>
            <a:ext cx="2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4" name="CasellaDiTesto 16"/>
          <p:cNvSpPr/>
          <p:nvPr/>
        </p:nvSpPr>
        <p:spPr>
          <a:xfrm>
            <a:off x="4357800" y="4500720"/>
            <a:ext cx="46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 altre parole l’Autorita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’ non ha ritenuto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ussisten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o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ufficientemente motivat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 peculiari caratteristiche economiche, sociali, ambientali e geomorfologiche  del contesto territoriale di rifer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e 9"/>
          <p:cNvSpPr/>
          <p:nvPr/>
        </p:nvSpPr>
        <p:spPr>
          <a:xfrm>
            <a:off x="142920" y="3357720"/>
            <a:ext cx="3857760" cy="22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EGATIVI PER  MOTIVI RICONDUCI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OSTANZIALMENTE A DUE TEMA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numero diapositiva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8118-1565-4053-8D88-A44E4206EF2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CasellaDiTesto 1"/>
          <p:cNvSpPr/>
          <p:nvPr/>
        </p:nvSpPr>
        <p:spPr>
          <a:xfrm>
            <a:off x="2928960" y="500040"/>
            <a:ext cx="57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>
            <a:off x="357120" y="621504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sellaDiTesto 3"/>
          <p:cNvSpPr/>
          <p:nvPr/>
        </p:nvSpPr>
        <p:spPr>
          <a:xfrm>
            <a:off x="3357720" y="500040"/>
            <a:ext cx="47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on sono stati dimostrati i vantaggi in termini di efficienza, economicità ed efficacia dell’azione amminist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sellaDiTesto 4"/>
          <p:cNvSpPr/>
          <p:nvPr/>
        </p:nvSpPr>
        <p:spPr>
          <a:xfrm>
            <a:off x="3357720" y="2714760"/>
            <a:ext cx="521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che avrebbero dovute emergere da un’attività di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mparazione tra diverse offerte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ad esito di una consultazione del mercato finalizzata a verificare l’eventuale presenza di operatori in grado di offrire i servizi oggetto di affidamento e di rispondere pertanto alle esigenze dell’amministrazi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ttore 2 6"/>
          <p:cNvCxnSpPr/>
          <p:nvPr/>
        </p:nvCxnSpPr>
        <p:spPr>
          <a:xfrm flipH="1">
            <a:off x="5500440" y="1856880"/>
            <a:ext cx="216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Segnaposto numero diapositiva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0D65-F510-4100-99D0-1BAC4FAA27E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BC67-0076-4B83-9E7D-DCE78FF8FF0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e 2"/>
          <p:cNvSpPr/>
          <p:nvPr/>
        </p:nvSpPr>
        <p:spPr>
          <a:xfrm>
            <a:off x="571680" y="214200"/>
            <a:ext cx="3357360" cy="214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NUNCE AGCM CHE DICHIARANO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ON LUOGO A PROVVEDE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5"/>
          <p:cNvSpPr/>
          <p:nvPr/>
        </p:nvSpPr>
        <p:spPr>
          <a:xfrm>
            <a:off x="4143240" y="1285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ttangolo 4"/>
          <p:cNvSpPr/>
          <p:nvPr/>
        </p:nvSpPr>
        <p:spPr>
          <a:xfrm>
            <a:off x="5214960" y="285840"/>
            <a:ext cx="3571920" cy="171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ER SERVIZI DI NATURA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STRUMENT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 NON RICONDUCIBILI AD SPL DI RILEVANZA ECONO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asellaDiTesto 6"/>
          <p:cNvSpPr/>
          <p:nvPr/>
        </p:nvSpPr>
        <p:spPr>
          <a:xfrm>
            <a:off x="928800" y="3143160"/>
            <a:ext cx="70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ASIS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RVIZIO DI RISCOSSIONE TARIFFA IGIENE AM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RVIZIO PULIZIA DI UFFICI E LOCALI COMU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RVIZIO ACCERTAMENTO E RISCOSSIONE TRIBUTI LO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STIONE VERDE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STIONE PALESTRA COMU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STIONE SERVIZI CULTU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STIONE MANUTENZIONE PATRIMONIO COMU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STION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ENSA SCOLA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STIONE SERVIZI INFORMATICI COMU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RVIZIO ENERGIA DEGLI IMMOBILI COMU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asellaDiTesto 8"/>
          <p:cNvSpPr/>
          <p:nvPr/>
        </p:nvSpPr>
        <p:spPr>
          <a:xfrm>
            <a:off x="1071720" y="250020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RIENTRANO NELL’APPLICAZIONE DELL’ART. 23 – 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0EAA-C8FF-4D57-8434-AA9D47580A5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ttangolo 2"/>
          <p:cNvSpPr/>
          <p:nvPr/>
        </p:nvSpPr>
        <p:spPr>
          <a:xfrm>
            <a:off x="357120" y="2428920"/>
            <a:ext cx="8429760" cy="1100160"/>
          </a:xfrm>
          <a:prstGeom prst="rect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GGIORNAMENTO SULLA GIURISPRUDENZA COMUNITARIA E INTERNA SULL’AFFIDAMENTO IN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4"/>
          <p:cNvSpPr/>
          <p:nvPr/>
        </p:nvSpPr>
        <p:spPr>
          <a:xfrm>
            <a:off x="357120" y="621504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3BF1-4D64-49A8-B2EC-48C5028206D9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457200" y="762120"/>
            <a:ext cx="3809880" cy="707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s. St. – ADUNANZA PLE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nt. 3 marzo 2008,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762120" y="175248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 PARTECIPAZIONE PUBBLICA TOTALITARIA E’ NECESSARIA MA NON SUFFIC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838080" y="24382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ECESSITA’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&gt; STRUMENTI DI CONTROLLO RISPETTO A QUELLI PREVISTI DAL DIRITTO CIVI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2514600" y="3276720"/>
            <a:ext cx="57150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O STATUTO NON DEVE CONSENTIRE CESSIONI AI PRIVATI, ANCHE MINORITA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L C.d’A. NON DEVE AVERE RILEVANTI POTERI GESTIONALI E ALL’ENTE PUBBLICO CONTROLLANTE DEVE ESSERE CONSENTITO DI ESERCITARE POTER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&gt; RISPETTO A QUELLI RICONOSCIUTI NORMALMENTE DAL DIRITTO SOCIETARIO ALLA MAGGIORANZA SOC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049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04920" y="2438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021-4003-44E1-9503-10D2670B0F7E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2438280" y="762120"/>
            <a:ext cx="56390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) L’IMPRESA NON DEVE AVERE ACQUISTATO UNA VOCAZIONE COMMERCIALE CHE RENDE PRECARIO IL CONTROLLO DELL’ENTE PUB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581280" y="2057400"/>
            <a:ext cx="51818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O AMPLIAMENTO OGGETTO SOC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O APERTURA DELLA SOCIETA’ AD ALTRI CAPI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O A ESPANSIONE TERRITORIALE NELLA SOCIETA’ A TUTTA L’ITALIA O ALL’EST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2590920" y="3809880"/>
            <a:ext cx="53337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) LE DECISIONI PIU’ IMPORTANTI DEVONO ESSERE SOTTOPOSTE AL VAGLIO PREVENTIVO DELL’ENTE AFFID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5D75-4DB2-4A93-9348-1469AE35C0F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26"/>
          <p:cNvSpPr/>
          <p:nvPr/>
        </p:nvSpPr>
        <p:spPr>
          <a:xfrm>
            <a:off x="380880" y="685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27"/>
          <p:cNvSpPr/>
          <p:nvPr/>
        </p:nvSpPr>
        <p:spPr>
          <a:xfrm>
            <a:off x="914400" y="6858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HIAMO ALLA SENT. CONS. GIUST.AMM. Reg. Sic. 4 settembre 2007, n° 7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2819520" y="18288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LTERIORI FATTORI ESSENZIALI AL “CONTROLLO ANALOG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29"/>
          <p:cNvSpPr/>
          <p:nvPr/>
        </p:nvSpPr>
        <p:spPr>
          <a:xfrm>
            <a:off x="1143000" y="3733920"/>
            <a:ext cx="73152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ROLLO DEL BILAN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ROLLO SULLA QUALITA’ DELL’AMMINIST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PETTANZA DI POTERI ISPETTIVI DIRETTI E CONC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TALE DIPENDENZA DELL’AFFIDATARIO DIRETTO IN TEMA DI STRATEGIE E POLITICHE AZIEND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030"/>
          <p:cNvSpPr/>
          <p:nvPr/>
        </p:nvSpPr>
        <p:spPr>
          <a:xfrm>
            <a:off x="426708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441972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32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706A-4D06-40BF-808F-7AF1CA86813D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533520" y="457200"/>
            <a:ext cx="6629400" cy="3373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 PIU’ RECENTE POSIZIONE COMUNI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142920" y="990720"/>
            <a:ext cx="900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nt. Corte di Giustizia Europea, Sez. II, 17 luglio 2008 n° c-371/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su un caso di affidamento diretto in Italia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a societa’ inizialmente 100% dei Comuni della Prov.  di  Manto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228600" y="1905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642960" y="1928880"/>
            <a:ext cx="807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’INDIZIONE DI UNA GARA PUBBLICA NON E’ OBBLIGATORIA ANCHE SE IL SOGGETTO AFFIDATARIO E’ UN ENTE GIURIDICAMENTE DISTINTO DALL’AMMINISTRAZIONE AGGIUDICATRICE SE SONO SODDISFATTE LE CONDI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4"/>
          <p:cNvSpPr/>
          <p:nvPr/>
        </p:nvSpPr>
        <p:spPr>
          <a:xfrm>
            <a:off x="3505320" y="3200400"/>
            <a:ext cx="5410080" cy="12193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A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IU’ IMPORTANTE  DELL’ATTIVIT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ER L’ENTE O GLI ENTI P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 NE DETENGONO IL CAP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5"/>
          <p:cNvSpPr/>
          <p:nvPr/>
        </p:nvSpPr>
        <p:spPr>
          <a:xfrm>
            <a:off x="838080" y="3276720"/>
            <a:ext cx="2514600" cy="1143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A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6"/>
          <p:cNvSpPr/>
          <p:nvPr/>
        </p:nvSpPr>
        <p:spPr>
          <a:xfrm>
            <a:off x="380880" y="4724280"/>
            <a:ext cx="373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FLUENZA DETERMINANTE SIA SUGLI OBIETTIVI STRATEGICI SIA SULLE DECISIONI IMPORTANTI DELLA SOCIET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4648320" y="4724280"/>
            <a:ext cx="426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CONTROLLO E’ CONGIUNTO, LA PREVALENZA DELL’ATTIVITA’ VA VALUTATA NEI CONFRONTI DEGLI ENTI COMPLESSIVAMENTE CONSIDER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8"/>
          <p:cNvSpPr/>
          <p:nvPr/>
        </p:nvSpPr>
        <p:spPr>
          <a:xfrm>
            <a:off x="20574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9"/>
          <p:cNvSpPr/>
          <p:nvPr/>
        </p:nvSpPr>
        <p:spPr>
          <a:xfrm>
            <a:off x="6248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0"/>
          <p:cNvSpPr/>
          <p:nvPr/>
        </p:nvSpPr>
        <p:spPr>
          <a:xfrm flipH="1">
            <a:off x="2786040" y="2928960"/>
            <a:ext cx="53352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1"/>
          <p:cNvSpPr/>
          <p:nvPr/>
        </p:nvSpPr>
        <p:spPr>
          <a:xfrm>
            <a:off x="4000680" y="2928960"/>
            <a:ext cx="53316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E9EC-6DF3-4144-B838-FC95C0BA0C7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CasellaDiTesto 2"/>
          <p:cNvSpPr/>
          <p:nvPr/>
        </p:nvSpPr>
        <p:spPr>
          <a:xfrm>
            <a:off x="285840" y="1643040"/>
            <a:ext cx="37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ER QUANTO ATTIENE ALL’ELEMENTO DELLA PARTECIPAZIONE PUBBL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asellaDiTesto 3"/>
          <p:cNvSpPr/>
          <p:nvPr/>
        </p:nvSpPr>
        <p:spPr>
          <a:xfrm>
            <a:off x="4429080" y="1428840"/>
            <a:ext cx="4714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ER RAGIONI DI CERTEZZA DEL DIRITTO, L’EV. OBBLIGO PER L’AMM. AGGIUDICATRICE DI PROCEDERE AD UNA GARA D’APPALTO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DEVE ESSERE VALUTATO, IN VIA  DI PRINCIPIO, ALLA LUCE DELLE CONDIZIONI ESISTENTI ALLA DATA DI AGGIUDICAZIONE  DELL’APPALTO PUBBLICO DI CUI TRATTA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Connettore 2 5"/>
          <p:cNvCxnSpPr/>
          <p:nvPr/>
        </p:nvCxnSpPr>
        <p:spPr>
          <a:xfrm>
            <a:off x="3286080" y="1928880"/>
            <a:ext cx="929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1" name="Text Box 19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DE3-8978-46BF-B329-D32BC8AA95B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asellaDiTesto 3"/>
          <p:cNvSpPr/>
          <p:nvPr/>
        </p:nvSpPr>
        <p:spPr>
          <a:xfrm>
            <a:off x="714240" y="785880"/>
            <a:ext cx="7358040" cy="44424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libri"/>
              </a:rPr>
              <a:t>Cons. Stato Sez V, 3 febbraio 2009, n. 59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CasellaDiTesto 4"/>
          <p:cNvSpPr/>
          <p:nvPr/>
        </p:nvSpPr>
        <p:spPr>
          <a:xfrm>
            <a:off x="571680" y="207180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LLEGITTIMITA’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I UN  AFFIDAMENTO DIRETTO DI UN SPL A FAVORE DI UNA SOCIETA’ IL CUI CAPITALE  E’ INTERAMENTE PUBBLICO, IN QUANTO LO  STATUTO DI QUEST’ULTIMA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NON GARANTISCE  IN VIA CERTA E PERMANE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INCEDIBILITA’ A PRIVATI DELLE 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D4AF-1B21-440F-B7D6-50DDD9BD646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676520" y="1600200"/>
            <a:ext cx="5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"/>
          <p:cNvSpPr/>
          <p:nvPr/>
        </p:nvSpPr>
        <p:spPr>
          <a:xfrm>
            <a:off x="2286000" y="1600200"/>
            <a:ext cx="14479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INALIT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886200" y="1600200"/>
            <a:ext cx="4876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AVORIRE LA PIU’ AMPIA DIFFUSIONE DEI PRINCIPI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5334120" y="2057400"/>
            <a:ext cx="320040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CORR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IBERTA’ DI STABIL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IBERA PRESTAZIONE DI SERV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86200" y="3581280"/>
            <a:ext cx="4876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 TUTTI GLI OPERATORI ECONOMICI INTERESSATI ALLA GESTIONE DI SERVIZI DI INTERESSE GENERALE IN AMBITO LO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571680" y="285840"/>
            <a:ext cx="1071360" cy="550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. 1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RT.  23 – bi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. 133/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012F-12C4-4392-BC87-5EBBC17E26A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ttangolo 2"/>
          <p:cNvSpPr/>
          <p:nvPr/>
        </p:nvSpPr>
        <p:spPr>
          <a:xfrm>
            <a:off x="285840" y="1285920"/>
            <a:ext cx="8643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el caso in cui il capitale della società aggiudicataria è interamente pubblico e in cui non vi è alcun indizio concreto di una futura apertura del capitale di tale società ad investitori privati,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a mera possibilità per i privati di partecipare al capitale di detta società non è sufficiente per concludere che la condizione relativa al controllo dell'autorità pubblica non è soddisfatta. L'apertura del capitale rileva solo vi è un'effettiva prospettiva di ingresso di soggetti privati nella compagine social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ltrimenti, il principio di certezza del diritto esige di valutare la legittimità dell'affidamento in house sulla base della situazione vigente al momento della deliberazione dell'Ente locale affid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CasellaDiTesto 3"/>
          <p:cNvSpPr/>
          <p:nvPr/>
        </p:nvSpPr>
        <p:spPr>
          <a:xfrm>
            <a:off x="428760" y="642960"/>
            <a:ext cx="8358120" cy="44424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libri"/>
              </a:rPr>
              <a:t>Corte di giustizia europea, Sez. III, 10/9/2009 n. C-573/0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A032-3B29-489C-8BEC-A4B7821ACFD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asellaDiTesto 3"/>
          <p:cNvSpPr/>
          <p:nvPr/>
        </p:nvSpPr>
        <p:spPr>
          <a:xfrm>
            <a:off x="357120" y="714240"/>
            <a:ext cx="8358120" cy="39888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 DEI CONTI SEZ. REG. LOMBARDIA, 11 Maggio 2009, N. 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asellaDiTesto 4"/>
          <p:cNvSpPr/>
          <p:nvPr/>
        </p:nvSpPr>
        <p:spPr>
          <a:xfrm>
            <a:off x="285840" y="164304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PETTA ALL’ENT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VALUTARE LE MODALITA’ OTTIMALI DI ESPLETAMENTO DEL SERVIZIO, CON RIGUAR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asellaDiTesto 5"/>
          <p:cNvSpPr/>
          <p:nvPr/>
        </p:nvSpPr>
        <p:spPr>
          <a:xfrm>
            <a:off x="2000160" y="2571840"/>
            <a:ext cx="700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I C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I MARGINI DI COPERTURA DEGLI ST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LLE MIGLIORI MODALITA’ DI ORGANIZZAZIONE DEL SERVIZIO   IN TERMINI DI EFFICIENZA, EFFICACIA ED ECONOM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CasellaDiTesto 6"/>
          <p:cNvSpPr/>
          <p:nvPr/>
        </p:nvSpPr>
        <p:spPr>
          <a:xfrm>
            <a:off x="357120" y="48578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EL RISPETTO DEI PRINCIPI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CasellaDiTesto 7"/>
          <p:cNvSpPr/>
          <p:nvPr/>
        </p:nvSpPr>
        <p:spPr>
          <a:xfrm>
            <a:off x="4643280" y="428616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UTELA DELLA CONCORR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asellaDiTesto 8"/>
          <p:cNvSpPr/>
          <p:nvPr/>
        </p:nvSpPr>
        <p:spPr>
          <a:xfrm>
            <a:off x="4786200" y="485784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UNIVERSAL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CasellaDiTesto 9"/>
          <p:cNvSpPr/>
          <p:nvPr/>
        </p:nvSpPr>
        <p:spPr>
          <a:xfrm>
            <a:off x="4572000" y="53578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IVELLI ESSENZIALI DI PRES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Connettore 2 11"/>
          <p:cNvCxnSpPr/>
          <p:nvPr/>
        </p:nvCxnSpPr>
        <p:spPr>
          <a:xfrm flipV="1">
            <a:off x="3857760" y="4571640"/>
            <a:ext cx="7149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9" name="Connettore 2 14"/>
          <p:cNvCxnSpPr/>
          <p:nvPr/>
        </p:nvCxnSpPr>
        <p:spPr>
          <a:xfrm>
            <a:off x="3857760" y="500076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0" name="Connettore 2 16"/>
          <p:cNvCxnSpPr/>
          <p:nvPr/>
        </p:nvCxnSpPr>
        <p:spPr>
          <a:xfrm>
            <a:off x="3857760" y="5143680"/>
            <a:ext cx="6433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DCA7-F92A-4019-A3C8-6D6BEA8BD2F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9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CasellaDiTesto 3"/>
          <p:cNvSpPr/>
          <p:nvPr/>
        </p:nvSpPr>
        <p:spPr>
          <a:xfrm>
            <a:off x="357120" y="714240"/>
            <a:ext cx="8358120" cy="39888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. STATO,  SEZ. V , 26 Agosto 2009, n. 50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CasellaDiTesto 4"/>
          <p:cNvSpPr/>
          <p:nvPr/>
        </p:nvSpPr>
        <p:spPr>
          <a:xfrm>
            <a:off x="785880" y="157176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TROLLO CONGI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asellaDiTesto 5"/>
          <p:cNvSpPr/>
          <p:nvPr/>
        </p:nvSpPr>
        <p:spPr>
          <a:xfrm>
            <a:off x="857160" y="2357280"/>
            <a:ext cx="77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ON E’ NECESSARIA LA RICORRENZA DI UN CONTROLLO INDIVIDUALE IN SENSO CIVILI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A  IL CONTROLLO DEVE ESSER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EFFETTIV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NCORCHE’ ESERCITATO CONGIUNTAMENTE 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ELIBERANDO A MAGGIORANZ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A PARTE DEI SOLI ENTI  PUBBLICI ASSOC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’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NDISPENSABI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H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E DECISIONI PIU’ IMPORTAN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ANO SEMPRE SOTTOPOSTE AL VAGLIO PREVENTIVO DELLA TOTALITA’ DEGLI EE.PP. SOC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1D65-B4C3-4D3C-A264-509033C55BD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4"/>
          <p:cNvSpPr/>
          <p:nvPr/>
        </p:nvSpPr>
        <p:spPr>
          <a:xfrm>
            <a:off x="357120" y="621504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ttangolo 3"/>
          <p:cNvSpPr/>
          <p:nvPr/>
        </p:nvSpPr>
        <p:spPr>
          <a:xfrm>
            <a:off x="2143080" y="2786040"/>
            <a:ext cx="6500880" cy="785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L NUOVO MODELLO DI GESTIONE SPL TRAMITE SOCIETA’ M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ttangolo 4"/>
          <p:cNvSpPr/>
          <p:nvPr/>
        </p:nvSpPr>
        <p:spPr>
          <a:xfrm>
            <a:off x="428760" y="2857680"/>
            <a:ext cx="1000080" cy="785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F97E-9608-4AAF-A048-F66FFCC30ED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4143240" y="2357280"/>
            <a:ext cx="0" cy="50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681200" y="720720"/>
            <a:ext cx="5243400" cy="569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IPLINA COMUNITARIA DEL PP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1747800" y="1731960"/>
            <a:ext cx="51102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MISSIONE DELLE COMUNITA’ EUROPEE HA PRESENTATO IL 30 aprile 2004 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959200" y="3030480"/>
            <a:ext cx="2419200" cy="7938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O VE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2286000" y="4329000"/>
            <a:ext cx="41688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O AI PARTENARIATI PUBBLICO-PRIVAT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P.P.P.)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 AL DIRITTO COMUNITARIO DEGLI APPALTI PUBBLICI E DELLE CONCESS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C321-1D8D-43F4-BBE9-A221F0584E7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406440" y="617220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Studio Legale Avv. Emilia Giulia Di Fava – Viale Dei Mille, 22 -  42100 Reggio Emilia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tel. 0522 436240, fax 0522 430042, e-mail </a:t>
            </a:r>
            <a:r>
              <a:rPr b="1" lang="it-IT" sz="9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egiulia.difava@libero.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09480" y="720720"/>
            <a:ext cx="8229600" cy="18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P.P. = FORME DI COOPERAZIONE TRA LE AUTORITA’ PUBBLICH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 IL MONDO DELLE IMPRESE CHE MIRANO A GARANTI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INANZIAMENTO, IL RINNOVAMENTO, LA GESTION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LA MANUTENZIONE DI UN’INFRASTRUTTU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LA FORNITURA DI UN SERVIZ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604800" y="2741760"/>
            <a:ext cx="3352680" cy="10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P.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AM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TTU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"/>
          <p:cNvSpPr/>
          <p:nvPr/>
        </p:nvSpPr>
        <p:spPr>
          <a:xfrm>
            <a:off x="4775040" y="2800440"/>
            <a:ext cx="3454560" cy="87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P.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TIP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ITUZIONALIZZA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914400" y="4057560"/>
            <a:ext cx="21337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lti pubbl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ssioni di lavoro o serv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429160" y="4000680"/>
            <a:ext cx="2338560" cy="28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ETA</a:t>
            </a:r>
            <a:r>
              <a:rPr b="1" lang="it-IT" sz="13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4500720" y="4500720"/>
            <a:ext cx="40654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ITA’ DI SCELTA DEL SOCIO PRIVATO NEL RISPETTO DEI PRINCIPI DI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5286240" y="5143680"/>
            <a:ext cx="33624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SPARENZ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TA’ DI TRATTAME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ZIONALITA’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PROCO RICONOSCIME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0"/>
          <p:cNvSpPr/>
          <p:nvPr/>
        </p:nvSpPr>
        <p:spPr>
          <a:xfrm flipH="1">
            <a:off x="2959200" y="2597040"/>
            <a:ext cx="511200" cy="15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1"/>
          <p:cNvSpPr/>
          <p:nvPr/>
        </p:nvSpPr>
        <p:spPr>
          <a:xfrm>
            <a:off x="5580000" y="2597040"/>
            <a:ext cx="609840" cy="171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2"/>
          <p:cNvSpPr/>
          <p:nvPr/>
        </p:nvSpPr>
        <p:spPr>
          <a:xfrm>
            <a:off x="6589800" y="367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228FBBF-BFB5-411D-BE0E-B5B555DEFA4C}" type="slidenum">
              <a:rPr b="0" lang="it-IT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57120" y="1571760"/>
            <a:ext cx="2071800" cy="1465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R COMUNITARIO VERSO FORME DI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3429000" y="1143000"/>
            <a:ext cx="5072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TE AL PUBBLICO DI BENEFICIARE      DEL KNOW – HOW PRI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E AL PARTNER PUBBLICO DI SVILUPPARE UNA PROPRIA ESPERIENZA RIGUARDO  LA FORNITURA DEL SERV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 IL PASSAGGIO DELLA P.A. DA RUOLO DI OPERATORE DIRETTO A QUELLO DI ORGANIZZATORE, REGOLATORE E CONTROL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80880" y="617220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Connettore 2 9"/>
          <p:cNvCxnSpPr/>
          <p:nvPr/>
        </p:nvCxnSpPr>
        <p:spPr>
          <a:xfrm>
            <a:off x="2428920" y="214272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egnaposto numero diapositiva 3"/>
          <p:cNvSpPr/>
          <p:nvPr/>
        </p:nvSpPr>
        <p:spPr>
          <a:xfrm>
            <a:off x="6599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3267-9D5D-4A97-B2C9-27E3E808921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"/>
          <p:cNvSpPr/>
          <p:nvPr/>
        </p:nvSpPr>
        <p:spPr>
          <a:xfrm>
            <a:off x="428760" y="357120"/>
            <a:ext cx="8026200" cy="569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RATTERISTICHE DEL SOCIO PRIV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584280" y="1434960"/>
            <a:ext cx="8329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SIDERAZIONE DEL FATTO CHE LA SOCIETA’ MISTA CHE DERIVERA’ A SEGUITO DELLA GARA PER L’INDIVIDUAZIONE DEL PARTNER  PRIVATO  SARA’ AFFIDATARIA DELLA GESTIONE DEL SERVIZI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858960" y="1050840"/>
            <a:ext cx="7823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OCIETA’ DEVE ESSERE </a:t>
            </a:r>
            <a:r>
              <a:rPr b="1" lang="it-IT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FFETTIVAMENTE</a:t>
            </a: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S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452520" y="6308640"/>
            <a:ext cx="8229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Studio Legale Avv. Emilia Giulia Di Fava – Viale Dei Mille, 22 -  42100 Reggio Emilia –tel. 0522 436240, fax 0522 430042, e-mail </a:t>
            </a:r>
            <a:r>
              <a:rPr b="1" lang="it-IT" sz="9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egiulia.difava@libero.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6"/>
          <p:cNvSpPr/>
          <p:nvPr/>
        </p:nvSpPr>
        <p:spPr>
          <a:xfrm>
            <a:off x="4618080" y="222876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1366920" y="2479680"/>
            <a:ext cx="6402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OCIO PRIVATO DEVE DETENERE IL NECESSARIO     KNOW-HOW  TECNICO-ECONOMI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8"/>
          <p:cNvSpPr/>
          <p:nvPr/>
        </p:nvSpPr>
        <p:spPr>
          <a:xfrm>
            <a:off x="4618080" y="294948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852480" y="3238560"/>
            <a:ext cx="721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 VALUTATA LA CAPACITA’ DI APPORTO E DI CONTRIBUTO NELLA REALIZZAZIONE DEGLI OBIETTIVI DELLA SOCIETA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0"/>
          <p:cNvSpPr/>
          <p:nvPr/>
        </p:nvSpPr>
        <p:spPr>
          <a:xfrm>
            <a:off x="4618080" y="374328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1592280" y="4032360"/>
            <a:ext cx="65023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 TECNICO, OPERATIVO IN GRADO DI EFFETTUARE PRESTAZIONI DI SERVIZIO PUBBLI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2"/>
          <p:cNvSpPr/>
          <p:nvPr/>
        </p:nvSpPr>
        <p:spPr>
          <a:xfrm>
            <a:off x="4618080" y="4465800"/>
            <a:ext cx="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1255680" y="4753080"/>
            <a:ext cx="7317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 </a:t>
            </a:r>
            <a:r>
              <a:rPr b="1" lang="it-IT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PRENDITORE</a:t>
            </a: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V. ANCHE ASSOCIATO A PARTNER FINANZIARIO (ad es. che si presenti in cordata o raggruppamento con partner imprenditor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4"/>
          <p:cNvSpPr/>
          <p:nvPr/>
        </p:nvSpPr>
        <p:spPr>
          <a:xfrm>
            <a:off x="3071880" y="5546880"/>
            <a:ext cx="3149640" cy="57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O OPERA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5"/>
          <p:cNvSpPr/>
          <p:nvPr/>
        </p:nvSpPr>
        <p:spPr>
          <a:xfrm>
            <a:off x="4618080" y="5259240"/>
            <a:ext cx="0" cy="28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6DEF-E1CC-4674-B977-247812EC5D6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214200" y="285840"/>
            <a:ext cx="8624880" cy="366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P.P.I.  - PARTENARIATO PUBBLICO PRIVATO ISTITUZIONAL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714240" y="1143000"/>
            <a:ext cx="8001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VELLO COMUNITARIO, LA COOPERAZIONE PUBBLICO-PRIVATO E’ FAVORITA, MA NON PUO’ RAPPRESENTARE UNA FORMA ELUSIVA DELLA DISCIPLINA DELLA CONCORR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1905120" y="2514600"/>
            <a:ext cx="6095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TA’ DI RISPETTO DE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NCIPI COMUNITARI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3200400" y="3124080"/>
            <a:ext cx="41148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ORR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SPAR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DISCRIMIN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TA’ DI TRATT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ZIONALIT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PROCO RICONOSC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6"/>
          <p:cNvSpPr/>
          <p:nvPr/>
        </p:nvSpPr>
        <p:spPr>
          <a:xfrm>
            <a:off x="4572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1DB1-540A-433B-988B-ED7D7DE622F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457200" y="533520"/>
            <a:ext cx="457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990720" y="533520"/>
            <a:ext cx="3429000" cy="366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ZIONE COM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609480" y="1066680"/>
            <a:ext cx="8077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UNICAZIONE INTERPRETATIVA DELLA COMMISSIONE EUROPEA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L’APPLICAZIONE DEL DIRITTO COMUNITARIO DEGLI APPALTI PUBBLICI E DELLE CONCESSIONI AI P.P.P. ISTITUZIONALIZZATI –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 (2007) 6661 DEL 5 Febbrai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304920" y="3200400"/>
            <a:ext cx="5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609480" y="3200400"/>
            <a:ext cx="8001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ESPRESSAMENTE RICONOSCIUTO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POSSIBILITA’ DI EVITARE LA DUPLICE PROCEDUR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SCELTA DEL SOCIO PRIVATO E DI AFFIDAM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380880" y="5257800"/>
            <a:ext cx="53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914400" y="5334120"/>
            <a:ext cx="74674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TA’ DI RISPETTO DE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NCIPI DI TRASPARENZ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ORRENZIALITA’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LA SCELTA DEL PARTNER PRIV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403848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533520" y="4267080"/>
            <a:ext cx="3200400" cy="9144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PPALTO/CONCES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4267080"/>
            <a:ext cx="4114800" cy="990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NTRIBUTO OPERATIVO/AM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ARTNER PRIV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2"/>
          <p:cNvSpPr/>
          <p:nvPr/>
        </p:nvSpPr>
        <p:spPr>
          <a:xfrm flipH="1">
            <a:off x="3580920" y="4267080"/>
            <a:ext cx="30492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4267080"/>
            <a:ext cx="3812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4"/>
          <p:cNvSpPr/>
          <p:nvPr/>
        </p:nvSpPr>
        <p:spPr>
          <a:xfrm>
            <a:off x="304920" y="2362320"/>
            <a:ext cx="86104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ZIONE DELLE MODALITA’ DI APPLICAZIONE DELLE DISP. COMUNITARIE SU P.P.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685800" y="3809880"/>
            <a:ext cx="5105520" cy="335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LA PROCEDURA EQUA E TRASPA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6"/>
          <p:cNvSpPr/>
          <p:nvPr/>
        </p:nvSpPr>
        <p:spPr>
          <a:xfrm>
            <a:off x="5867280" y="3809880"/>
            <a:ext cx="3048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HA PER OGGET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7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BFEE-9D37-408C-990A-D19F8E30E31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571680" y="285840"/>
            <a:ext cx="1071360" cy="550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. 1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RT.  23 – bi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. 133/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828800" y="838080"/>
            <a:ext cx="53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14600" y="762120"/>
            <a:ext cx="58672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ARANTIRE IL DIRITTO DI TUTTI GL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UTENT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LLA UNIVERSALITA’ ED ACCESSIBILITA’ SPL ED AL LIVELLO ESSENZIALE DELLE PREST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828800" y="1905120"/>
            <a:ext cx="53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90920" y="1828800"/>
            <a:ext cx="5943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ICURARE UN ADEGUATO LIVELLO DI TUTELA DEGLI UTENTI, SECONDO I PRINCIPI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095880" y="2362320"/>
            <a:ext cx="27432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SSIDIARIET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PORZIONALIT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EALE COOPERAZ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981080" y="3733920"/>
            <a:ext cx="457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43200" y="3581280"/>
            <a:ext cx="52578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DISPOSIZIONI DI CUI ALL’ART. 23 – bis    SI APPLICANO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A TUTTI I SP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PREVALGON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SULLE RELATIVE DISCIPLINE DI SETTORE CON ESSE INCOMPATI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981080" y="4800600"/>
            <a:ext cx="457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3379-27D1-46F5-90D3-B03201F4420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838080" y="609480"/>
            <a:ext cx="7696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IAMO ALL’APPLICAZIONE DELL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CEDUR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L’AGGIUDICAZIONE DI APPALTI PUBBLICI/CONCESSIONI/SERV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228600" y="609480"/>
            <a:ext cx="609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838080" y="1447920"/>
            <a:ext cx="76201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TENZIALI OFFERENTI DEVONO AVERE ACCESSO A INFORMAZIONI ADEGU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838080" y="2286000"/>
            <a:ext cx="792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NO ESSERE RESI NOTI 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RITERI DI SELEZION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GGIUDI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838080" y="3048120"/>
            <a:ext cx="7543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GUATO LIVELLO DI PUBBLICITA’ – INFORMAZIONE DI B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4286160" y="4786200"/>
            <a:ext cx="258948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M. AGGIUD./PRI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M. AGGIUD./SOC.M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3276720" y="5486400"/>
            <a:ext cx="548640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LA DUR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LA POSSIBILITA’ DI RINNOVO O MODIFICA DI CONDIZIONI REG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228600" y="1447920"/>
            <a:ext cx="609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228600" y="2286000"/>
            <a:ext cx="609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228600" y="3048120"/>
            <a:ext cx="609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2"/>
          <p:cNvSpPr/>
          <p:nvPr/>
        </p:nvSpPr>
        <p:spPr>
          <a:xfrm>
            <a:off x="990720" y="2590920"/>
            <a:ext cx="5486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 DI NON DISCRIMIN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3"/>
          <p:cNvSpPr/>
          <p:nvPr/>
        </p:nvSpPr>
        <p:spPr>
          <a:xfrm>
            <a:off x="1000080" y="2786040"/>
            <a:ext cx="53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3276720" y="3429000"/>
            <a:ext cx="472428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L’APPALTO/CONCESSIONE DA AFFIDARE ALLA SOCIETA’ M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LO STAT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 RAPPORTO CONTRATTU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3DE5-5E33-44BB-B23C-64F2CABB1CF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"/>
          <p:cNvSpPr/>
          <p:nvPr/>
        </p:nvSpPr>
        <p:spPr>
          <a:xfrm>
            <a:off x="304920" y="685800"/>
            <a:ext cx="609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143000" y="685800"/>
            <a:ext cx="6324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SE POSTERIORE ALLA COSTITUZIONE DI UN P.P.P.I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1143000" y="1447920"/>
            <a:ext cx="7467480" cy="42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.P.P.I. DEVONO CONTINUARE AD OPERARE NEL LORO AMBITO DI ATTIVITA’ INIZ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POSSONO, IN LINEA DI PRINCIPIO, OTTENERE NUOVI APPALTI PUBBLICI O NUOVE CONCESSIONI SENZA UNA PROC. D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RA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RISPETTO DEL DIR. COMUNITARIO IN MATERIA DI APPALTI PUBBL. E CONCESS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L P.P.P.I. E’ DI LUNGA DURATA                 LA  POSSIBILITA’ DI PREVEDERE ESPRESSAMENTE POSSIBILITA’ DI ADEGUAMENTO CONOSCIBILI FIN DALL’INIZIO PER TUTTI GLI INTERESSATI ALLA PROCED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SIASI MODIFICA DI CONDIZIONI ESSENZIALI (oggetto dei lavori o servizi, canoni, ecc….) NON PREVISTA IMPONE DI RICORRERE A NUOVA G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OCIETA’ MISTA PUO’ PARTECIPARE A GARE D’APPALTO PUBBL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5"/>
          <p:cNvSpPr/>
          <p:nvPr/>
        </p:nvSpPr>
        <p:spPr>
          <a:xfrm>
            <a:off x="4786200" y="3357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533520" y="1447920"/>
            <a:ext cx="457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533520" y="2057400"/>
            <a:ext cx="457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533520" y="3200400"/>
            <a:ext cx="457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500040" y="4357800"/>
            <a:ext cx="457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571680" y="5072040"/>
            <a:ext cx="457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8FAF-1177-422A-986F-BC382C88A6C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"/>
          <p:cNvSpPr/>
          <p:nvPr/>
        </p:nvSpPr>
        <p:spPr>
          <a:xfrm>
            <a:off x="457200" y="533520"/>
            <a:ext cx="457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1219320" y="533520"/>
            <a:ext cx="5209920" cy="366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ZIONE GIURISPRUDENZA IN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219320" y="1295280"/>
            <a:ext cx="4724280" cy="3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ERE CONS. ST. 18 Aprile 2007, n° 4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533520" y="1981080"/>
            <a:ext cx="5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1066680" y="1981080"/>
            <a:ext cx="7620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E’ CONDIVISIBILE LA POSIZIONE CHE CONSIDERA SEMPRE LEGITTIMO L’AFFIDAMENTO DIRETTO ALLA SOCIETA’ MISTA, PER IL SOLO FATTO CHE IL SOCIO PRIVATO VENGA SCELTO CON PROCEDURA AD EVIDENZA PUB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533520" y="3581280"/>
            <a:ext cx="5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1143000" y="3581280"/>
            <a:ext cx="5638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ONO AMMISSIBILI SOCIETA’ MISTE “APERT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6934320" y="3581280"/>
            <a:ext cx="1981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TA’ DI SCEGLIERE IL SOCIO PRIV. PER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NALITA’ DEFINITE E IDENTIF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>
            <a:off x="64771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38D0-35FF-4163-9EB5-9B905BC5199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304920" y="990720"/>
            <a:ext cx="5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685800" y="990720"/>
            <a:ext cx="5562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ONO AMMISSIBILI FINALITA’ “GENERALIST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6400800" y="990720"/>
            <a:ext cx="22096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OCIO PRIV. NON PUO’ AVVALERSI DI VANTAGGI COMPET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60958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04920" y="2819520"/>
            <a:ext cx="5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838080" y="2819520"/>
            <a:ext cx="525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RICORSO ALLA SO C. MISTA PUO’ AVVEN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1066680" y="3352680"/>
            <a:ext cx="777240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SISTA LA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VISIONE LEGISLATIVA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NE FONDI LA POSSIBILITA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 SIANO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TIVAT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ROCEDA ALLA SCELTA SOCIO CON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RA PER SCELTA SOCIO E AFFID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OCIETA’ SIA COSTITUITA APPOSITAMENTE PER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’EROGAZIONE DI UNO O PIU’ SERVIZI DETERMIN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1066680" y="5410080"/>
            <a:ext cx="1447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 S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2286000" y="5410080"/>
            <a:ext cx="1523880" cy="3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Z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3886200" y="5410080"/>
            <a:ext cx="4876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 TUTELA DELLA CONCORR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5867280" y="2819520"/>
            <a:ext cx="2514600" cy="335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DIZIONE 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10A2-C943-474E-890A-8805A65934C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609480" y="914400"/>
            <a:ext cx="53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1219320" y="1600200"/>
            <a:ext cx="64767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ARA PER LA SCELTA DEL SOCIO DEVE ANCHE DEFINIRE L’AFFIDAMENTO DEL SERVIZIO OPE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457200" y="2819520"/>
            <a:ext cx="53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219320" y="2819520"/>
            <a:ext cx="7162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 SUSSISTERE LA GARANZIA DEL RINNOVO DELLA PROCEDURA DI SELEZIONE ALLA SCADENZA DEL PERIODO DI AFFID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3048120" y="4267080"/>
            <a:ext cx="2590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 SOCIO STA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"/>
          <p:cNvSpPr/>
          <p:nvPr/>
        </p:nvSpPr>
        <p:spPr>
          <a:xfrm>
            <a:off x="434340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066680" y="990720"/>
            <a:ext cx="1828800" cy="396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2971800" y="990720"/>
            <a:ext cx="380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0"/>
          <p:cNvSpPr/>
          <p:nvPr/>
        </p:nvSpPr>
        <p:spPr>
          <a:xfrm>
            <a:off x="2362320" y="5029200"/>
            <a:ext cx="4114800" cy="9144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ORTO DI PARTENARI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ATO NEL T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1"/>
          <p:cNvSpPr/>
          <p:nvPr/>
        </p:nvSpPr>
        <p:spPr>
          <a:xfrm>
            <a:off x="43434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2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0399-981A-4643-BDDB-A546CE6BFF7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428760" y="357120"/>
            <a:ext cx="8143920" cy="1200600"/>
          </a:xfrm>
          <a:prstGeom prst="rect">
            <a:avLst/>
          </a:prstGeom>
          <a:solidFill>
            <a:srgbClr val="67e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. St. ADUNANZA PLENARIA – DECISIONE n° 1 del 3 marz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285840" y="3071880"/>
            <a:ext cx="5331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785880" y="3071880"/>
            <a:ext cx="80010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ODELLO ELABORATO DAL PARERE CONS. ST. / n° 456/2007 E’ </a:t>
            </a:r>
            <a:r>
              <a:rPr b="1" lang="it-IT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A DELLE POSSIBILI SOLUZIO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3214800" y="2000160"/>
            <a:ext cx="2438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ZIONE APER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457200" y="4038480"/>
            <a:ext cx="533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874800" y="4040280"/>
            <a:ext cx="7772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 STATO, IN MANCANZA DI INDICAZIONI PRECISE DA PARTE DELLA NORMATIVA E DELLA GIURISPRUDENZA COMUNITARIA, NON E’ ELABORABILE UNA SOLUZIONE UNIVOCA O UN MODELLO DEFINITIV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8"/>
          <p:cNvSpPr/>
          <p:nvPr/>
        </p:nvSpPr>
        <p:spPr>
          <a:xfrm>
            <a:off x="4286160" y="164304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3BF2-B02E-4D4F-9DC8-B694203A9CC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80880" y="457200"/>
            <a:ext cx="8229600" cy="366120"/>
          </a:xfrm>
          <a:prstGeom prst="rect">
            <a:avLst/>
          </a:prstGeom>
          <a:solidFill>
            <a:srgbClr val="67e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. STATO, Sez. V, 25 Agosto 2008, n. 40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268200" y="1082520"/>
            <a:ext cx="890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941400" y="1082520"/>
            <a:ext cx="746748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I PER LO SVOLGIMENTO DI ATTIVITA’ EXTRA-TERRITORIALE PER LE SOCIETA’ MIS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914400" y="2438280"/>
            <a:ext cx="4343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E SOCIETA’ MISTE SUSSISTE U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4786200" y="2428920"/>
            <a:ext cx="3732480" cy="3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COLO GENETICO-FUNZIONA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990720" y="2819520"/>
            <a:ext cx="3733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LE LEGA ALL’ENTE D’ORIG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304920" y="2438280"/>
            <a:ext cx="8888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914400" y="3505320"/>
            <a:ext cx="784872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OCIETA’ MISTE DEVONO PERSEGUIRE </a:t>
            </a:r>
            <a:r>
              <a:rPr b="1" lang="it-IT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NALITA’ DI PROMOZIONE DELLO SVILUPPO DELLA COMUNITA’ LOCALE DI EMANAZI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990720" y="4724280"/>
            <a:ext cx="7238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PEGNO DA ASSUMERE NON DEVE COMPORTARE UNA DISTRAZIONE DI MEZZI E RISORSE TALI DA ARRECARE PREGIUDIZIO ALLA COMUNITA’ DI RIFERIM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380880" y="3581280"/>
            <a:ext cx="685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380880" y="4800600"/>
            <a:ext cx="685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4"/>
          <p:cNvSpPr/>
          <p:nvPr/>
        </p:nvSpPr>
        <p:spPr>
          <a:xfrm>
            <a:off x="4168800" y="1658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6347-8198-4E40-A090-DB510991467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533520" y="533520"/>
            <a:ext cx="8153280" cy="366120"/>
          </a:xfrm>
          <a:prstGeom prst="rect">
            <a:avLst/>
          </a:prstGeom>
          <a:solidFill>
            <a:srgbClr val="67e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. STATO , Sez. VI, 23 Settembre 2008, n° 4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609480" y="1523880"/>
            <a:ext cx="9144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538200" y="1731960"/>
            <a:ext cx="762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371600" y="1676520"/>
            <a:ext cx="7315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TTIMITA’ DELLA COSTITUZIONE DI SOCIETA’ MISTE, ANCHE AL DI FUORI DEL SETTORE DEI SERVIZ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538200" y="3102120"/>
            <a:ext cx="762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1371600" y="30481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TA’ DI INDICARE NELLA GARA PER LA SELEZIONE DEL SOCIO PRIVATO I CONCRETI COMPITI OPERATIVI CHE LA NUOVA SOCIETA’ SARA’ CHIAMATA AD ASSOLV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8"/>
          <p:cNvSpPr/>
          <p:nvPr/>
        </p:nvSpPr>
        <p:spPr>
          <a:xfrm>
            <a:off x="571680" y="357120"/>
            <a:ext cx="7576920" cy="368280"/>
          </a:xfrm>
          <a:prstGeom prst="rect">
            <a:avLst/>
          </a:prstGeom>
          <a:solidFill>
            <a:srgbClr val="67e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GLIO DI STATO, SEZ. V, 16 marzo 2009, n° 1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CasellaDiTesto 4"/>
          <p:cNvSpPr/>
          <p:nvPr/>
        </p:nvSpPr>
        <p:spPr>
          <a:xfrm>
            <a:off x="142920" y="85716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291960" y="887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ETA’ M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357120" y="178596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ZIONI PER L’AFFIDAMENTO DIRETTO A SOC. M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asellaDiTesto 8"/>
          <p:cNvSpPr/>
          <p:nvPr/>
        </p:nvSpPr>
        <p:spPr>
          <a:xfrm>
            <a:off x="142920" y="185724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"/>
          <p:cNvSpPr/>
          <p:nvPr/>
        </p:nvSpPr>
        <p:spPr>
          <a:xfrm>
            <a:off x="3571920" y="928800"/>
            <a:ext cx="47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ODELLO DELINEATO DALL’ART. 113, c. 5, lett. b) DLgs. 267/2000 COSTITUISCE UN PARADIGMA VALIDO 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CHE AL DI FUORI S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3786120" y="2000160"/>
            <a:ext cx="52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ESISTA UNA N. DI LEGGE CHE AUTORIZZI L’AMM. AD AVVALERSI DI TALE STRU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3786120" y="2571840"/>
            <a:ext cx="47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IL PARTNER PRIVATO SIA SCELTO CON G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3786120" y="2928960"/>
            <a:ext cx="535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L’ATTIVITA’ DELLA SOC. MISTA SIA RESA IN VIA PREVALENTE IN FAVORE DELL’AUTORITA’ PUBBL. CHE L’HA COSTITU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3786120" y="3643200"/>
            <a:ext cx="535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LA GARA (UNICA) PER LA SCELTA DEL PARTNER E AFFIDAM. SERVIZI DEFINISCA ESATTAMENTE L’OGGETTO DEI MEDESIMI (SERV. DETERMINA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3857760" y="4500720"/>
            <a:ext cx="528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LA SELEZIONE DELL’OFFERTA MIGLIORE SIA RAPPORTATA NON ALLA SOLIDITA’ FINANZIARIA DELL’OFFERENTE, MA ALLA CAPACITA’ DI SVOLGERE LE PRESTAZIONI SPECIFICHE OGGETTO DEL CONTRA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3786120" y="5572080"/>
            <a:ext cx="471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IL RAPPORTO INSTAURANDO ABBIA DURATA PREDETERMIN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"/>
          <p:cNvSpPr/>
          <p:nvPr/>
        </p:nvSpPr>
        <p:spPr>
          <a:xfrm>
            <a:off x="6705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9F6D8C6-41EA-4CC7-A687-9C4BEAAE46B6}" type="slidenum">
              <a:rPr b="0" lang="it-IT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533520" y="632448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3357720" y="200016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3357720" y="257184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3357720" y="300024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3357720" y="364320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3429000" y="442908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3429000" y="564372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2857680" y="12142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"/>
          <p:cNvSpPr/>
          <p:nvPr/>
        </p:nvSpPr>
        <p:spPr>
          <a:xfrm>
            <a:off x="3000240" y="22147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A9EF-78CC-4F45-8279-E2DFB1386D4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500040" y="214200"/>
            <a:ext cx="8153280" cy="783360"/>
          </a:xfrm>
          <a:prstGeom prst="rect">
            <a:avLst/>
          </a:prstGeom>
          <a:solidFill>
            <a:srgbClr val="67e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V.  GENERALE  DAMASO  RUIZ – JARABO  COL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iugno 2009,  n.  C – 19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533520" y="632448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CasellaDiTesto 4"/>
          <p:cNvSpPr/>
          <p:nvPr/>
        </p:nvSpPr>
        <p:spPr>
          <a:xfrm>
            <a:off x="500040" y="12859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CLUSIONI SU AFF. A SOC. MISTA  DEL SII RAG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DIZIONI PER LA LEGITTIMITA’ DELL’AFFIDAMENTO DIRETTO A SOC. MI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4286160" y="221472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CasellaDiTesto 6"/>
          <p:cNvSpPr/>
          <p:nvPr/>
        </p:nvSpPr>
        <p:spPr>
          <a:xfrm>
            <a:off x="500040" y="2643120"/>
            <a:ext cx="8429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HE LA SOC. MANTENG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’OGGETTO ESCLUSIV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URANT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UTT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LA SUA ESISTE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HE IL SOCIO PRIV. SIA SCELTO CON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C. AD EV. PUBB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HE IL SOCIO PRIV. ASSUMA COM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ARTNER INDUSTRIALE L’ESECUZIONE DEL SERVIZIO E DEI LAV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HE LA GARA RISPETTI 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INCIPI COMUNITA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E, SE DEL CASO, LE REGOLE DELLA PUBBLICITA’ E AGGIUDICAZIONE PREVISTE PER GL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PPALTI PUBBL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B83D-1241-4E1B-86FB-72784E72C89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80880" y="6172200"/>
            <a:ext cx="8229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sellaDiTesto 3"/>
          <p:cNvSpPr/>
          <p:nvPr/>
        </p:nvSpPr>
        <p:spPr>
          <a:xfrm>
            <a:off x="357120" y="785880"/>
            <a:ext cx="8358120" cy="39888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 DEI CONTI SEZ. REG. LOMBARDIA, 11 Maggio 2009, N. 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4"/>
          <p:cNvSpPr/>
          <p:nvPr/>
        </p:nvSpPr>
        <p:spPr>
          <a:xfrm>
            <a:off x="785880" y="1857240"/>
            <a:ext cx="792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rt. 23 – bis SI APPLICA  A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PL DI RILEVANZA ECONO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O POSSIBILITA’ DI INDIVIDUAZIONE DEFINITA E STATICA DI SPL A RILEVANZA ECONO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ALUTAZIONE DA FARSI DI VOLTA IN VOLTA  RISPETTO AL SPL DA ESPLETARE, AVENDO RIGUARD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5"/>
          <p:cNvSpPr/>
          <p:nvPr/>
        </p:nvSpPr>
        <p:spPr>
          <a:xfrm>
            <a:off x="1357200" y="4214880"/>
            <a:ext cx="750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L’IMPATTO DEL SPL SUL MERCATO CONCORRENZIAL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LA REDDI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L’ AUTOSUFFICIENZA  ECONO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D83E-2632-4515-91FC-280F70ABE94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428760" y="614376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Studio Legale Di Fava - Viale dei Mille, 22  42100 Reggio Emilia  Tel. 0522. 436240  - Fax 0522.430042 e-mail egiulia.difava@libe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214200" y="285840"/>
            <a:ext cx="1285920" cy="550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UO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. 1  ART. 23 – 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ZO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sellaDiTesto 4"/>
          <p:cNvSpPr/>
          <p:nvPr/>
        </p:nvSpPr>
        <p:spPr>
          <a:xfrm>
            <a:off x="1571760" y="785880"/>
            <a:ext cx="757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SONO FATTE SALVE LE DISPOSIZIONI RELATIVE A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sellaDiTesto 5"/>
          <p:cNvSpPr/>
          <p:nvPr/>
        </p:nvSpPr>
        <p:spPr>
          <a:xfrm>
            <a:off x="1643040" y="1857240"/>
            <a:ext cx="664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ISTRIBUZIONE GAS – AMBITI TERRITORIALI MIN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D.Lgs. 164/2000 – art. 46 – bis D.L. 159/2007 conv. con mod. in L.   222/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ISTRIBUZIONE DI ENERGIA ELET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D.Lgs. 79/1999 e L. 239/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RASPORTO FERROVIARIO REG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D.Lgs. 422/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CasellaDiTesto 1"/>
          <p:cNvSpPr/>
          <p:nvPr/>
        </p:nvSpPr>
        <p:spPr>
          <a:xfrm>
            <a:off x="1785960" y="428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CONFERIMENTO   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2"/>
          <p:cNvSpPr/>
          <p:nvPr/>
        </p:nvSpPr>
        <p:spPr>
          <a:xfrm>
            <a:off x="4929120" y="357120"/>
            <a:ext cx="3000600" cy="4287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 VIA 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sellaDiTesto 3"/>
          <p:cNvSpPr/>
          <p:nvPr/>
        </p:nvSpPr>
        <p:spPr>
          <a:xfrm>
            <a:off x="1500120" y="157176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sellaDiTesto 4"/>
          <p:cNvSpPr/>
          <p:nvPr/>
        </p:nvSpPr>
        <p:spPr>
          <a:xfrm>
            <a:off x="2428920" y="164304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 IMPREND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 SOCIETA’ IN QUALUNQUE FORMA COSTIT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Connettore 2 6"/>
          <p:cNvCxnSpPr/>
          <p:nvPr/>
        </p:nvCxnSpPr>
        <p:spPr>
          <a:xfrm flipH="1">
            <a:off x="5000040" y="2571480"/>
            <a:ext cx="108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CasellaDiTesto 8"/>
          <p:cNvSpPr/>
          <p:nvPr/>
        </p:nvSpPr>
        <p:spPr>
          <a:xfrm>
            <a:off x="1785960" y="364320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DIVIDUATI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CEDURE  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VIDENZA PUBBL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EL  RISPETTO DEI PRINCIPI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sellaDiTesto 9"/>
          <p:cNvSpPr/>
          <p:nvPr/>
        </p:nvSpPr>
        <p:spPr>
          <a:xfrm>
            <a:off x="5857920" y="2357280"/>
            <a:ext cx="3071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I CONTRATTI PUBBL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CONOMICI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F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MPARZIA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RASPARE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EGUATA PUBBLICI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ON DISCRIMIN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RITA’ DI TRAT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UTUO RICONOS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PORZIONA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nettore 1 11"/>
          <p:cNvSpPr/>
          <p:nvPr/>
        </p:nvSpPr>
        <p:spPr>
          <a:xfrm flipH="1">
            <a:off x="5500800" y="2500200"/>
            <a:ext cx="144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85840" y="357120"/>
            <a:ext cx="1143000" cy="564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UO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.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RT. 23 – 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egnaposto numero diapositiva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1694-89DC-452B-9643-2ED3AC23AD63}" type="slidenum">
              <a:rPr b="1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7:17:50Z</dcterms:created>
  <dc:creator>Laura Ricciardi</dc:creator>
  <dc:description/>
  <dc:language>en-US</dc:language>
  <cp:lastModifiedBy>Laura Ricciardi</cp:lastModifiedBy>
  <dcterms:modified xsi:type="dcterms:W3CDTF">2009-10-26T10:21:33Z</dcterms:modified>
  <cp:revision>317</cp:revision>
  <dc:subject/>
  <dc:title>Diapositiva 1</dc:title>
</cp:coreProperties>
</file>