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50920" y="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32040" y="740880"/>
            <a:ext cx="4930560" cy="36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06120" y="4690800"/>
            <a:ext cx="4979880" cy="4437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38052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50920" y="938052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0F4B6-C38E-4B5E-9E1B-1AD3E67599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16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16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16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16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06480" y="4686480"/>
            <a:ext cx="4981680" cy="45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16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3D3-8C6E-4DF1-8E97-941EC605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22928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D7A-C5B5-4AE1-A4FD-A9ECCA2D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756-CB47-4417-905D-EF86F5FC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8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8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22928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22928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22928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9AB-0293-490E-91B2-BA1E9C8E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202F-C873-481E-B2D9-A2C13FC3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77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ABF3-185F-4FB1-B70B-83841371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7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95DB-D8C8-47EB-A607-A92B6861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020D-554A-4BBC-8F42-B318C3AE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4CD2-3C9A-4959-9B58-52AE6AAB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322200"/>
            <a:ext cx="7788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1F0E-77B6-421C-8CDB-EF8F64D1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87B-D8A6-4ACB-A3B6-2D5607EE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77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CE1-A2E0-4262-82E7-3B3D39C7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276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9A0C-CDD2-4465-8C70-8A1FAB1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2972-6BFF-4C93-BA29-6042A9C0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240" y="422928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88AB-E44F-4FCD-902E-E668080B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276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963D-4FB5-49BD-A31F-10619D7D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8440" y="20178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5000" y="20178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240" y="422928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08440" y="422928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5000" y="422928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3F44-4142-4D84-9FA7-3F38EF87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7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F68-67B4-4B64-9449-F9FB4D5E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E29-6C3C-4A29-8CF4-6EAA817F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686-F668-4080-91CC-A36A571F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322200"/>
            <a:ext cx="7788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DAD-37F7-428D-8895-7C05F03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89A-6EC3-4EA9-8B0E-238AB92B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6A5-B185-4005-910C-D32D5D66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11C-7431-448E-9E52-6925158F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7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2/10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12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320" y="6324120"/>
            <a:ext cx="1900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A573B-6B0A-47DD-9E9B-C846EDF88A8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53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533600"/>
            <a:ext cx="7767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2/10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C34042-854D-4F0C-A8EB-5162322E239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716280"/>
            <a:ext cx="78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L REVAMPING DEL POLO PER IL TRATTAMENTO DEI RIFIUTI  DI VIA GONARS: DAI CRITERI DI SCELTA AL PROGETTO.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 PERCORSO APERTO E SCENARI POSSIBIL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5950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ssimo Fucca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167652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0" t="0" r="5558" b="0"/>
          <a:stretch/>
        </p:blipFill>
        <p:spPr>
          <a:xfrm>
            <a:off x="3708360" y="333360"/>
            <a:ext cx="1295280" cy="860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732720" y="260280"/>
            <a:ext cx="1766880" cy="1136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19280" y="1916280"/>
            <a:ext cx="565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gestione dei rifiu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 pianificazione e scelte gest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0920" y="285264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ercoledì 28 ottobr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EF7-9783-461D-9DA1-5D8DA1CD77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76520" y="882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L’APPROCCIO METOD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800360"/>
            <a:ext cx="70102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verview dello scenari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involgimento degli operatori privati del  mercato e visita ad impianti esist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ntesi delle principali informazioni relative agli impianti di digestione anaero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alisi dello scenario futuro e sviluppo progettu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356-9262-4D3E-92C1-EC46243430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196560"/>
            <a:ext cx="79246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eb8509"/>
                </a:solidFill>
                <a:latin typeface="Times New Roman"/>
              </a:rPr>
              <a:t>Sintesi delle principali informazioni relative agli impianti di digestione anaerob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581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no state analizzate le principali caratteristiche, vantaggi e svantaggi delle tecnologie di digestione anaerobica dry (%TS 20-40), semidry (%TS 10-20), wet (%TS &lt;10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Wet: pre-trattamenti troppo complessi, elevate quantità di liquido a smaltimento, elevati costi di investimento, problemi di intasamento dei reattor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midry: rispetto al sistema wet pre-trattamenti meno compless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a soluzione che fornisce prestazioni economiche migliori, anche in relazione alle quantità in ingresso, è quella che prevede il sistema di digestione dry con annesso impianto di compostagg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C86-D83C-472E-97E4-25E2655490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76520" y="882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L’APPROCCIO METOD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800360"/>
            <a:ext cx="70102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verview dello scenari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involgimento degli operatori privati del  mercato e visita ad impianti esist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ntesi delle principali informazioni relative agli impianti di digestione anaero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alisi dello scenario futuro e sviluppo progettu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BEC-F9C7-4A31-82E9-58CFF7FC55C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07880"/>
            <a:ext cx="532584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79640" y="2160720"/>
            <a:ext cx="5040360" cy="4033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35040" y="720720"/>
            <a:ext cx="6745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ANALISI DELLO SCENARIO FUTURO E SVILUPPO PROGETTU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EFB-A21A-4E99-8A8C-55152767E73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120600"/>
            <a:ext cx="70880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eb8509"/>
                </a:solidFill>
                <a:latin typeface="Times New Roman"/>
              </a:rPr>
              <a:t>Analisi dello scenario futuro </a:t>
            </a:r>
            <a:br>
              <a:rPr sz="3200"/>
            </a:br>
            <a:r>
              <a:rPr b="1" lang="it-IT" sz="3200" spc="-1" strike="noStrike">
                <a:solidFill>
                  <a:srgbClr val="eb8509"/>
                </a:solidFill>
                <a:latin typeface="Times New Roman"/>
              </a:rPr>
              <a:t>e sviluppo progettuale</a:t>
            </a:r>
            <a:br>
              <a:rPr sz="3200"/>
            </a:br>
            <a:br>
              <a:rPr sz="1200"/>
            </a:br>
            <a:r>
              <a:rPr b="1" lang="it-IT" sz="2000" spc="-1" strike="noStrike">
                <a:solidFill>
                  <a:srgbClr val="eb8509"/>
                </a:solidFill>
                <a:latin typeface="Times New Roman"/>
              </a:rPr>
              <a:t>Trattamento FORSU + VERD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uova sezione impiantistica per il trattamento di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FORSU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VERD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mediante D.A. seguita da compostaggio aerobico del digest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tenzialità: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20.000 t/anno di FORSU + 10.000 t/anno di verd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elta della soluzion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“dry”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 seguito a valutazione comparata con la soluzione “semidr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st compostaggio aerobico del digest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stema di biofiltrazione per il trattamento delle ar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B23-9FAD-43E1-8EE4-C98FF76DB1B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ateriale digestato subirà un processo di compostaggio in biotunnel e successiva maturazione finale in a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dotto finale sarà un compost di qualità da impiegare in agricolt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sistema di biofiltrazione assicurerà la depurazione di tutte le arie e i vapori aspirati dai biotunnel e dalle aree dell'impianto (tutte chiuse e in leggera depressione) al fine di abbattere con elevata efficienza le componenti odorigene presenti prima di scaricarle nell’atmosfer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693800" y="360360"/>
            <a:ext cx="6405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TRATTAMENTO FORSU E VERDE</a:t>
            </a:r>
            <a:br>
              <a:rPr sz="2800"/>
            </a:br>
            <a:r>
              <a:rPr b="1" lang="it-IT" sz="2000" spc="-1" strike="noStrike">
                <a:solidFill>
                  <a:srgbClr val="eb8509"/>
                </a:solidFill>
                <a:latin typeface="Times New Roman"/>
              </a:rPr>
              <a:t>COMPOSTAGGIO AEROBICO DEL DIGE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869-CB4F-4C54-9190-92B865E148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112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1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rattamento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su “secco residuo”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ell'impianto esistente rifunzionalizz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11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-tritur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11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ioessiccazione in biotu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11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rattamenti per ulteriore recupero materia/energ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1080" indent="-228600">
              <a:spcBef>
                <a:spcPts val="11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lezione metal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1080" indent="-228600">
              <a:spcBef>
                <a:spcPts val="11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Vagliat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1080" indent="-228600">
              <a:spcBef>
                <a:spcPts val="11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parazione carta/plastica (detettori automatici, press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1080" indent="-228600">
              <a:spcBef>
                <a:spcPts val="11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affinazione CDR (triturazio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2400"/>
            <a:ext cx="7088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eb8509"/>
                </a:solidFill>
                <a:latin typeface="Times New Roman"/>
              </a:rPr>
              <a:t>Analisi dello scenario futuro </a:t>
            </a:r>
            <a:br>
              <a:rPr sz="3200"/>
            </a:br>
            <a:r>
              <a:rPr b="1" lang="it-IT" sz="3200" spc="-1" strike="noStrike">
                <a:solidFill>
                  <a:srgbClr val="eb8509"/>
                </a:solidFill>
                <a:latin typeface="Times New Roman"/>
              </a:rPr>
              <a:t>e sviluppo progettuale</a:t>
            </a:r>
            <a:br>
              <a:rPr sz="3200"/>
            </a:br>
            <a:br>
              <a:rPr sz="1200"/>
            </a:br>
            <a:r>
              <a:rPr b="1" lang="it-IT" sz="2000" spc="-1" strike="noStrike">
                <a:solidFill>
                  <a:srgbClr val="eb8509"/>
                </a:solidFill>
                <a:latin typeface="Times New Roman"/>
              </a:rPr>
              <a:t>Trattamento “RSU SECCO RESIDU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6A2-682B-476E-9C2F-84300ADFC78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72072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TRATTAMENTO SECCO RESIDUO</a:t>
            </a:r>
            <a:r>
              <a:rPr b="0" lang="it-IT" sz="3600" spc="-1" strike="noStrike">
                <a:solidFill>
                  <a:srgbClr val="eb85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Migliorare il sistema attuale di trattamento rifiuti indifferenziati attraverso la rifunzionalizzazione impiantistica (attrezzature attuali a fine vita) al fine di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Ottenere il massimo recupero possibile delle frazioni secche ancora presenti nell'indifferenziato (carta, plastica, metall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Migliorare la qualità del CDR prodotto per un successivo recupero energetico ottimale dello stess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durre al minimo il contenuto di rifiuto biodegradabile da smaltire in discari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332-991F-4053-AB2F-2E12406F1E9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6360" y="398160"/>
            <a:ext cx="779328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OBIETTIVI DEL REVAMPING </a:t>
            </a:r>
            <a:br>
              <a:rPr sz="2800"/>
            </a:b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DEL POLO DI VIA GONA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85720" y="2241360"/>
            <a:ext cx="84153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cupero di ENERGIA da BIOGAS (la frazione biodegradabile dei RSU è a tutti gli effetti considerata  fonte rinnovabi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cupero di MATERIA attraverso la produzione di COMPOST di qualità da reimpiegare in agricol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cupero “passivo” attraverso le perdite di processo per evapor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oduzione di CDR da avviare a recupero ENERGE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lteriore recupero di frazioni quali metalli, carta e plastica da avviare a produzione di materia prima seconda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tutto finalizzato a rendere minimo il ricorso allo smaltimento in discar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63D-0A4F-4C71-9E89-E5010AA50D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06360" y="398160"/>
            <a:ext cx="779328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OBIETTIVI DEL REVAMPING </a:t>
            </a:r>
            <a:br>
              <a:rPr sz="2800"/>
            </a:b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DEL POLO DI VIA GONA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85720" y="2241360"/>
            <a:ext cx="84153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cupero di ENERGIA da BIOGAS (la frazione biodegradabile dei RSU è a tutti gli effetti considerata  fonte rinnovabi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cupero di MATERIA attraverso la produzione di COMPOST di qualità da reimpiegare in agricol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cupero “passivo” attraverso le perdite di processo per evapor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oduzione di CDR da avviare a recupero ENERGE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lteriore recupero di frazioni quali metalli, carta e plastica da avviare a produzione di materia prima seconda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tutto finalizzato a rendere minimo il ricorso allo smaltimento in discar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3DE-9EDD-4097-8C00-CA7E9E1FBD7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320" y="914400"/>
            <a:ext cx="4800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IL GRUPPO DI LAVOR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7228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et Sp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ing. M. Fucca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ing. S. Tarar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p.i. A. Cecut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ing. A. Iacuz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dott. A. Marzoc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UNIVERSITA’ degli STUDI di UDINE - CIFR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 Centro Interdipartimentale per la Formazione e Ricerca Ambient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prof. ing. G. Nard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ing. P. Simeoni, Ph.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dott. F. Codat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 componente del Comitato Tecnico del CIC (Consorzio Italiano Compostato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371-B1D6-4DAB-8290-8596B26E7A6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8964720" cy="684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916360" y="981000"/>
            <a:ext cx="3779640" cy="10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ill Sans Ultra Bold"/>
              </a:rPr>
              <a:t>Grazie per l'atten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ill Sans Ultra Bold"/>
              <a:ea typeface="Gill Sans Ul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3880" y="9144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ORIENTAMENTI NORM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0"/>
            <a:ext cx="701028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erarchia” delle priorità ambien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Massimizzazione della Raccolta Differenzi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Massimizzazione del Recupero di mat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Massimizzazione del Recupero energe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Minimizzazione del ricorso alla disca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2E9-0F4F-487B-BFE3-5E699A33C3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5120" y="882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LE ATTUALI CRITIC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286000"/>
            <a:ext cx="739116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voluzione delle raccolte: incremento della raccolta differenziata (focus separazione organic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end di riduzione dei rifiuti indifferenziati conferiti all’impianto di Ud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ità di migliorare la qualità dei prodotti dell’impianto di Udine (compost, CD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renza di impianti per il trattamento del verde e dell’um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F8E-DF35-474F-9517-CA182EA296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882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L’APPROCCIO METOD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00360"/>
            <a:ext cx="70102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verview dello scenario na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involgimento degli operatori privati del  mercato e visita ad impianti esist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ntesi delle principali informazioni relative agli impianti di digestione anaero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alisi dello scenario futuro e sviluppo progettu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675-A3F9-4951-81EE-56C49F0CE4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852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eb8509"/>
                </a:solidFill>
                <a:latin typeface="Times New Roman"/>
              </a:rPr>
              <a:t>Overview dello scenario naz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060640"/>
            <a:ext cx="70106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alisi tra diversi sistemi di trattamento di rifiuto urbano: valutazione comparativa tra le diverse tecnologie in termini di costi (life cycle cost) e di flussi (material flow analys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ccolta dati ed elaborazione mediante analisi di regre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mpianti di compostag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mpianti di trattamento meccanico-bi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mpianti di digestione anaero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mpianti di trattamento te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dellizzazione del sistema gestione rifiuti nella Provincia di Udine e individuazione di scenari alterna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872-47FD-4619-BBA8-78853ADEDB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0200" y="852480"/>
            <a:ext cx="72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eb8509"/>
                </a:solidFill>
                <a:latin typeface="Times New Roman"/>
              </a:rPr>
              <a:t>Overview dello scenario naz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0"/>
            <a:ext cx="7010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ntesi delle elabora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’implementazione della raccolta differenziata dell’organico al fine di raggiungere gli obiettivi auspicati dalla normativa appare favorevole solo se connessa con la realizzazione di un impianto di digestione anaerobica e compostagg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4F5-CB9B-4990-A5F2-60A441CB7D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76520" y="882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L’APPROCCIO METOD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800360"/>
            <a:ext cx="70102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verview dello scenari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involgimento degli operatori privati del  mercato e visita ad impianti esist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ntesi delle principali informazioni relative agli impianti di digestione anaero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alisi dello scenario futuro e sviluppo progettu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AEC-C0AA-4806-9002-00625A7EC7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60768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imes New Roman"/>
              </a:rPr>
              <a:t>Il coinvolgimento degli operatori privati del mercat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3124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7604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nostra idea sottoposta al vaglio del merc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7604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3000" indent="-69516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7604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hiesta di proposta tecnica e commerciale di impianto di digestione anaerobica con annesso compostaggio e impianto di trattamento secco non riciclab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20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7604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poste soluzioni di digestione anaerobic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r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midr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il trattamento FORSU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7604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820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7604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ioessiccazione più ulteriori trattamenti per il secc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residu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604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 Sp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4FB-5B99-4D6A-9788-B946E2450A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caro</cp:lastModifiedBy>
  <cp:lastPrinted>2009-10-23T06:49:35Z</cp:lastPrinted>
  <dcterms:modified xsi:type="dcterms:W3CDTF">2009-10-28T07:29:37Z</dcterms:modified>
  <cp:revision>90</cp:revision>
  <dc:subject/>
  <dc:title>Presentazione di PowerPoint</dc:title>
</cp:coreProperties>
</file>