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29.wmf" ContentType="image/x-wmf"/>
  <Override PartName="/ppt/media/image9.jpeg" ContentType="image/jpeg"/>
  <Override PartName="/ppt/media/image32.wmf" ContentType="image/x-wmf"/>
  <Override PartName="/ppt/media/image33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01000" cy="10234440"/>
          </a:xfrm>
          <a:custGeom>
            <a:avLst/>
            <a:gdLst>
              <a:gd name="textAreaLeft" fmla="*/ 360 w 7101000"/>
              <a:gd name="textAreaRight" fmla="*/ 7100640 w 71010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1">
                <a:moveTo>
                  <a:pt x="5" y="0"/>
                </a:moveTo>
                <a:arcTo wR="5" hR="5" stAng="16200000" swAng="-5400000"/>
                <a:lnTo>
                  <a:pt x="0" y="31126"/>
                </a:lnTo>
                <a:arcTo wR="5" hR="5" stAng="10800000" swAng="-5400000"/>
                <a:lnTo>
                  <a:pt x="21595" y="311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101000" cy="10236240"/>
          </a:xfrm>
          <a:custGeom>
            <a:avLst/>
            <a:gdLst>
              <a:gd name="textAreaLeft" fmla="*/ 360 w 7101000"/>
              <a:gd name="textAreaRight" fmla="*/ 7100640 w 7101000"/>
              <a:gd name="textAreaTop" fmla="*/ 360 h 10236240"/>
              <a:gd name="textAreaBottom" fmla="*/ 10235880 h 10236240"/>
            </a:gdLst>
            <a:ahLst/>
            <a:rect l="textAreaLeft" t="textAreaTop" r="textAreaRight" b="textAreaBottom"/>
            <a:pathLst>
              <a:path w="21600" h="31136">
                <a:moveTo>
                  <a:pt x="5" y="0"/>
                </a:moveTo>
                <a:arcTo wR="5" hR="5" stAng="16200000" swAng="-5400000"/>
                <a:lnTo>
                  <a:pt x="0" y="31131"/>
                </a:lnTo>
                <a:arcTo wR="5" hR="5" stAng="10800000" swAng="-5400000"/>
                <a:lnTo>
                  <a:pt x="21595" y="311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101000" cy="10236240"/>
          </a:xfrm>
          <a:custGeom>
            <a:avLst/>
            <a:gdLst>
              <a:gd name="textAreaLeft" fmla="*/ 360 w 7101000"/>
              <a:gd name="textAreaRight" fmla="*/ 7100640 w 7101000"/>
              <a:gd name="textAreaTop" fmla="*/ 360 h 10236240"/>
              <a:gd name="textAreaBottom" fmla="*/ 10235880 h 10236240"/>
            </a:gdLst>
            <a:ahLst/>
            <a:rect l="textAreaLeft" t="textAreaTop" r="textAreaRight" b="textAreaBottom"/>
            <a:pathLst>
              <a:path w="21600" h="31136">
                <a:moveTo>
                  <a:pt x="5" y="0"/>
                </a:moveTo>
                <a:arcTo wR="5" hR="5" stAng="16200000" swAng="-5400000"/>
                <a:lnTo>
                  <a:pt x="0" y="31131"/>
                </a:lnTo>
                <a:arcTo wR="5" hR="5" stAng="10800000" swAng="-5400000"/>
                <a:lnTo>
                  <a:pt x="21595" y="311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101000" cy="10236240"/>
          </a:xfrm>
          <a:custGeom>
            <a:avLst/>
            <a:gdLst>
              <a:gd name="textAreaLeft" fmla="*/ 360 w 7101000"/>
              <a:gd name="textAreaRight" fmla="*/ 7100640 w 7101000"/>
              <a:gd name="textAreaTop" fmla="*/ 360 h 10236240"/>
              <a:gd name="textAreaBottom" fmla="*/ 10235880 h 10236240"/>
            </a:gdLst>
            <a:ahLst/>
            <a:rect l="textAreaLeft" t="textAreaTop" r="textAreaRight" b="textAreaBottom"/>
            <a:pathLst>
              <a:path w="21600" h="31136">
                <a:moveTo>
                  <a:pt x="5" y="0"/>
                </a:moveTo>
                <a:arcTo wR="5" hR="5" stAng="16200000" swAng="-5400000"/>
                <a:lnTo>
                  <a:pt x="0" y="31131"/>
                </a:lnTo>
                <a:arcTo wR="5" hR="5" stAng="10800000" swAng="-5400000"/>
                <a:lnTo>
                  <a:pt x="21595" y="311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101000" cy="10236240"/>
          </a:xfrm>
          <a:custGeom>
            <a:avLst/>
            <a:gdLst>
              <a:gd name="textAreaLeft" fmla="*/ 360 w 7101000"/>
              <a:gd name="textAreaRight" fmla="*/ 7100640 w 7101000"/>
              <a:gd name="textAreaTop" fmla="*/ 360 h 10236240"/>
              <a:gd name="textAreaBottom" fmla="*/ 10235880 h 10236240"/>
            </a:gdLst>
            <a:ahLst/>
            <a:rect l="textAreaLeft" t="textAreaTop" r="textAreaRight" b="textAreaBottom"/>
            <a:pathLst>
              <a:path w="21600" h="31136">
                <a:moveTo>
                  <a:pt x="5" y="0"/>
                </a:moveTo>
                <a:arcTo wR="5" hR="5" stAng="16200000" swAng="-5400000"/>
                <a:lnTo>
                  <a:pt x="0" y="31131"/>
                </a:lnTo>
                <a:arcTo wR="5" hR="5" stAng="10800000" swAng="-5400000"/>
                <a:lnTo>
                  <a:pt x="21595" y="311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101000" cy="10236240"/>
          </a:xfrm>
          <a:custGeom>
            <a:avLst/>
            <a:gdLst>
              <a:gd name="textAreaLeft" fmla="*/ 360 w 7101000"/>
              <a:gd name="textAreaRight" fmla="*/ 7100640 w 7101000"/>
              <a:gd name="textAreaTop" fmla="*/ 360 h 10236240"/>
              <a:gd name="textAreaBottom" fmla="*/ 10235880 h 10236240"/>
            </a:gdLst>
            <a:ahLst/>
            <a:rect l="textAreaLeft" t="textAreaTop" r="textAreaRight" b="textAreaBottom"/>
            <a:pathLst>
              <a:path w="21600" h="31136">
                <a:moveTo>
                  <a:pt x="5" y="0"/>
                </a:moveTo>
                <a:arcTo wR="5" hR="5" stAng="16200000" swAng="-5400000"/>
                <a:lnTo>
                  <a:pt x="0" y="31131"/>
                </a:lnTo>
                <a:arcTo wR="5" hR="5" stAng="10800000" swAng="-5400000"/>
                <a:lnTo>
                  <a:pt x="21595" y="311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101000" cy="10236240"/>
          </a:xfrm>
          <a:custGeom>
            <a:avLst/>
            <a:gdLst>
              <a:gd name="textAreaLeft" fmla="*/ 360 w 7101000"/>
              <a:gd name="textAreaRight" fmla="*/ 7100640 w 7101000"/>
              <a:gd name="textAreaTop" fmla="*/ 360 h 10236240"/>
              <a:gd name="textAreaBottom" fmla="*/ 10235880 h 10236240"/>
            </a:gdLst>
            <a:ahLst/>
            <a:rect l="textAreaLeft" t="textAreaTop" r="textAreaRight" b="textAreaBottom"/>
            <a:pathLst>
              <a:path w="21600" h="31136">
                <a:moveTo>
                  <a:pt x="5" y="0"/>
                </a:moveTo>
                <a:arcTo wR="5" hR="5" stAng="16200000" swAng="-5400000"/>
                <a:lnTo>
                  <a:pt x="0" y="31131"/>
                </a:lnTo>
                <a:arcTo wR="5" hR="5" stAng="10800000" swAng="-5400000"/>
                <a:lnTo>
                  <a:pt x="21595" y="311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101000" cy="10236240"/>
          </a:xfrm>
          <a:custGeom>
            <a:avLst/>
            <a:gdLst>
              <a:gd name="textAreaLeft" fmla="*/ 360 w 7101000"/>
              <a:gd name="textAreaRight" fmla="*/ 7100640 w 7101000"/>
              <a:gd name="textAreaTop" fmla="*/ 360 h 10236240"/>
              <a:gd name="textAreaBottom" fmla="*/ 10235880 h 10236240"/>
            </a:gdLst>
            <a:ahLst/>
            <a:rect l="textAreaLeft" t="textAreaTop" r="textAreaRight" b="textAreaBottom"/>
            <a:pathLst>
              <a:path w="21600" h="31136">
                <a:moveTo>
                  <a:pt x="5" y="0"/>
                </a:moveTo>
                <a:arcTo wR="5" hR="5" stAng="16200000" swAng="-5400000"/>
                <a:lnTo>
                  <a:pt x="0" y="31131"/>
                </a:lnTo>
                <a:arcTo wR="5" hR="5" stAng="10800000" swAng="-5400000"/>
                <a:lnTo>
                  <a:pt x="21595" y="311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6396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6540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8856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45720" y="4862520"/>
            <a:ext cx="5194440" cy="460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723240"/>
            <a:ext cx="3063960" cy="509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022280" y="9723240"/>
            <a:ext cx="3065400" cy="509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  <a:defRPr b="0" lang="en-GB" sz="1200" spc="-1" strike="noStrike">
                <a:solidFill>
                  <a:srgbClr val="000000"/>
                </a:solidFill>
                <a:latin typeface="FetteEng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9A262EAB-2F9C-47F0-836F-A05D35C55115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6D74AD49-EA72-4E92-90D4-6E1089A605DF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45720" y="4862160"/>
            <a:ext cx="51958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984262D6-53D5-4EAE-9CCF-D924E21769AE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B21F69DA-C103-442C-9133-DDA653845BED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D665DAF7-C933-476B-BEA3-447847A58D9D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554B3354-1675-4083-A80D-D37A58128E75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150E5174-249D-48CC-AAEB-3C2A780A9A7A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DD8E2342-3819-445F-8430-692B7D54293A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EE440543-F60D-44E1-88DC-417A42AFF5ED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CCE6C44D-8ACD-4A2D-8029-4A26CDB2122A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5810A4AA-8DBE-4469-8BEC-94BFAA5F9C97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A4DA6F32-2E54-46D3-AB0E-8F91BE367CCD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0F359DE5-40DB-4C74-A6B2-DD16F2A31933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90C12DAF-5B13-401D-86F1-66D5BAE585C1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0E45139A-45D9-4971-B005-AC4B0FA4106E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AD56E7C0-A52D-43DC-98DE-52C217B5E063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FDFF3017-0AAB-4402-9A57-5C01748B60F6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70914D1E-8112-4F27-B652-39BC3B77246D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33A25B27-92B2-43CF-B8A3-0062AE455C5B}" type="slidenum">
              <a:rPr b="0" lang="en-GB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4"/>
          <p:cNvSpPr/>
          <p:nvPr/>
        </p:nvSpPr>
        <p:spPr>
          <a:xfrm>
            <a:off x="4022640" y="9723600"/>
            <a:ext cx="3065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30240"/>
                <a:tab algn="l" pos="1395360"/>
                <a:tab algn="l" pos="1860480"/>
                <a:tab algn="l" pos="2325600"/>
                <a:tab algn="l" pos="2792520"/>
                <a:tab algn="l" pos="3257640"/>
                <a:tab algn="l" pos="3722760"/>
                <a:tab algn="l" pos="4189320"/>
                <a:tab algn="l" pos="4656240"/>
                <a:tab algn="l" pos="5119560"/>
                <a:tab algn="l" pos="5586480"/>
                <a:tab algn="l" pos="6053040"/>
                <a:tab algn="l" pos="6516720"/>
                <a:tab algn="l" pos="6981840"/>
                <a:tab algn="l" pos="7450200"/>
                <a:tab algn="l" pos="7913520"/>
                <a:tab algn="l" pos="8379000"/>
                <a:tab algn="l" pos="8847000"/>
                <a:tab algn="l" pos="9312120"/>
                <a:tab algn="l" pos="9767880"/>
                <a:tab algn="l" pos="10233000"/>
                <a:tab algn="l" pos="10698120"/>
              </a:tabLst>
            </a:pPr>
            <a:fld id="{9C936E13-C973-4AB3-AA89-0A35FAFDD67F}" type="slidenum">
              <a:rPr b="0" lang="en-US" sz="1200" spc="-1" strike="noStrike">
                <a:solidFill>
                  <a:srgbClr val="000000"/>
                </a:solidFill>
                <a:latin typeface="FetteEng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1184400" y="768240"/>
            <a:ext cx="47322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45720" y="4857480"/>
            <a:ext cx="519588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89F-8FE5-4DE4-8BE9-523943E1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9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59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22D-1324-4E1D-A786-87C1863D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640" y="419220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BAE-F691-472A-B708-A89F50CA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98072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2800" y="198072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19220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2800" y="419220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696-2DB7-4421-B18F-24D0DE8F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598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A3A-4616-489E-96C7-E21FA33E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9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3BB-E2C0-423C-B570-2E674E98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0BE-5103-4E46-AC59-DF0AB674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073-EFA0-463E-B0E9-3CEC0C68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32B-3860-4476-A52F-FB6B250D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098-48B8-4D12-BE86-89EAC08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640" y="419220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46A-FFE9-4A58-BC04-EC90F8E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59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72E-5A97-43B9-ADEB-E07C13E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59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lnSpc>
                <a:spcPct val="6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AF6BC3-03DB-4708-834B-34F387273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3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3.jpeg"/><Relationship Id="rId5" Type="http://schemas.openxmlformats.org/officeDocument/2006/relationships/image" Target="../media/image19.jpe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0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57" name="Rectangle 31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32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" name="Picture 36" descr="cassonetti eliminati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2376360"/>
            <a:ext cx="3059280" cy="1844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4"/>
          <p:cNvSpPr/>
          <p:nvPr/>
        </p:nvSpPr>
        <p:spPr>
          <a:xfrm>
            <a:off x="2771640" y="479520"/>
            <a:ext cx="5400720" cy="5153760"/>
          </a:xfrm>
          <a:prstGeom prst="rect">
            <a:avLst/>
          </a:prstGeom>
          <a:solidFill>
            <a:srgbClr val="002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FetteEngD"/>
              </a:rPr>
              <a:t>L’esperienza di A&amp;T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FetteEngD"/>
              </a:rPr>
              <a:t>Li abbiamo eliminati!</a:t>
            </a:r>
            <a:r>
              <a:rPr b="1" lang="it-IT" sz="2400" spc="-1" strike="noStrike">
                <a:solidFill>
                  <a:srgbClr val="ffffff"/>
                </a:solidFill>
                <a:latin typeface="FetteEng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FetteEngD"/>
              </a:rPr>
              <a:t>Metodi e risultati della raccolta differenziata spin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FetteEngD"/>
              </a:rPr>
              <a:t>ing. Gianpaolo Stefanutti</a:t>
            </a:r>
            <a:r>
              <a:rPr b="1" lang="it-IT" sz="2400" spc="-1" strike="noStrike">
                <a:solidFill>
                  <a:srgbClr val="ffffff"/>
                </a:solidFill>
                <a:latin typeface="FetteEngD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FetteEngD"/>
              </a:rPr>
              <a:t>Vice Presidente A&amp;T 2000 S.p.A.</a:t>
            </a:r>
            <a:r>
              <a:rPr b="0" i="1" lang="it-IT" sz="1800" spc="-1" strike="noStrike">
                <a:solidFill>
                  <a:srgbClr val="ffffff"/>
                </a:solidFill>
                <a:latin typeface="FetteEng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37" descr=""/>
          <p:cNvPicPr/>
          <p:nvPr/>
        </p:nvPicPr>
        <p:blipFill>
          <a:blip r:embed="rId2"/>
          <a:stretch/>
        </p:blipFill>
        <p:spPr>
          <a:xfrm>
            <a:off x="1886040" y="620640"/>
            <a:ext cx="2303280" cy="7765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43"/>
          <p:cNvGrpSpPr/>
          <p:nvPr/>
        </p:nvGrpSpPr>
        <p:grpSpPr>
          <a:xfrm>
            <a:off x="0" y="6450120"/>
            <a:ext cx="9144000" cy="423720"/>
            <a:chOff x="0" y="6450120"/>
            <a:chExt cx="9144000" cy="423720"/>
          </a:xfrm>
        </p:grpSpPr>
        <p:sp>
          <p:nvSpPr>
            <p:cNvPr id="63" name="Rectangle 4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" name="Picture 9" descr=""/>
            <p:cNvPicPr/>
            <p:nvPr/>
          </p:nvPicPr>
          <p:blipFill>
            <a:blip r:embed="rId3"/>
            <a:stretch/>
          </p:blipFill>
          <p:spPr>
            <a:xfrm>
              <a:off x="7885080" y="6450120"/>
              <a:ext cx="1258920" cy="4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Rectangle 38"/>
          <p:cNvSpPr/>
          <p:nvPr/>
        </p:nvSpPr>
        <p:spPr>
          <a:xfrm>
            <a:off x="0" y="6453360"/>
            <a:ext cx="2771640" cy="404640"/>
          </a:xfrm>
          <a:prstGeom prst="rect">
            <a:avLst/>
          </a:prstGeom>
          <a:solidFill>
            <a:srgbClr val="002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41"/>
          <p:cNvSpPr/>
          <p:nvPr/>
        </p:nvSpPr>
        <p:spPr>
          <a:xfrm>
            <a:off x="0" y="5589720"/>
            <a:ext cx="8172360" cy="594720"/>
          </a:xfrm>
          <a:prstGeom prst="rect">
            <a:avLst/>
          </a:prstGeom>
          <a:solidFill>
            <a:srgbClr val="a3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t">
            <a:spAutoFit/>
          </a:bodyPr>
          <a:p>
            <a:pPr>
              <a:lnSpc>
                <a:spcPct val="77000"/>
              </a:lnSpc>
              <a:spcBef>
                <a:spcPts val="123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</a:rPr>
              <a:t>La gestione dei rifiuti tra pianificazione e scelte gestion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2142"/>
                </a:solidFill>
                <a:latin typeface="FetteEngD"/>
              </a:rPr>
              <a:t>Udine – Sala Ajace, Palazzo Comunale - 28 ottobre 20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182" name="Rectangle 5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6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185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Text Box 11"/>
          <p:cNvSpPr/>
          <p:nvPr/>
        </p:nvSpPr>
        <p:spPr>
          <a:xfrm>
            <a:off x="468360" y="33336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La raccolta differenziata spinta: i risulta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2142"/>
                </a:solidFill>
                <a:latin typeface="FetteEngD"/>
              </a:rPr>
              <a:t>Comuni che hanno avviato la raccolta “porta a porta” nel novembre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611280" y="2060640"/>
            <a:ext cx="3384000" cy="3452760"/>
            <a:chOff x="611280" y="2060640"/>
            <a:chExt cx="3384000" cy="3452760"/>
          </a:xfrm>
        </p:grpSpPr>
        <p:sp>
          <p:nvSpPr>
            <p:cNvPr id="190" name="Text Box 16"/>
            <p:cNvSpPr/>
            <p:nvPr/>
          </p:nvSpPr>
          <p:spPr>
            <a:xfrm>
              <a:off x="611280" y="2060640"/>
              <a:ext cx="2538000" cy="3452760"/>
            </a:xfrm>
            <a:prstGeom prst="rect">
              <a:avLst/>
            </a:prstGeom>
            <a:solidFill>
              <a:srgbClr val="c1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BERTIOLO: </a:t>
              </a: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CAMPOFORMID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CODROIP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MARTIGNACC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PASIAN DI PRAT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POZZUOLO DEL F.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2142"/>
                  </a:solidFill>
                  <a:latin typeface="FetteEngD"/>
                </a:rPr>
                <a:t>MEDIA 6 COMUN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2142"/>
                  </a:solidFill>
                  <a:latin typeface="FetteEngD"/>
                </a:rPr>
                <a:t>ANNO 200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3149280" y="2060640"/>
              <a:ext cx="846000" cy="345276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6,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9,2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7,1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5,3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9,8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6,8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FetteEngD"/>
                </a:rPr>
                <a:t>77,6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2" name="Object 18"/>
          <p:cNvGraphicFramePr/>
          <p:nvPr/>
        </p:nvGraphicFramePr>
        <p:xfrm>
          <a:off x="4140360" y="1989000"/>
          <a:ext cx="4895640" cy="28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1989000"/>
                    <a:ext cx="489564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19"/>
          <p:cNvSpPr/>
          <p:nvPr/>
        </p:nvSpPr>
        <p:spPr>
          <a:xfrm>
            <a:off x="4284720" y="4941720"/>
            <a:ext cx="468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FetteEngD"/>
              </a:rPr>
              <a:t>Rifiuti differenziati</a:t>
            </a:r>
            <a:r>
              <a:rPr b="0" lang="it-IT" sz="1600" spc="-1" strike="noStrike">
                <a:solidFill>
                  <a:srgbClr val="002142"/>
                </a:solidFill>
                <a:latin typeface="FetteEngD"/>
              </a:rPr>
              <a:t>: carta, vetro, imballaggi in plastica+lattine, organico, metalli, beni durevoli, verde, legno, lampade a fluorescenza, pile esaurite, ec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FetteEngD"/>
              </a:rPr>
              <a:t>Rifiuti indifferenziati</a:t>
            </a:r>
            <a:r>
              <a:rPr b="0" lang="it-IT" sz="1600" spc="-1" strike="noStrike">
                <a:solidFill>
                  <a:srgbClr val="002142"/>
                </a:solidFill>
                <a:latin typeface="FetteEngD"/>
              </a:rPr>
              <a:t>: secco residuo, ingombranti, rifiuti da spazzamento strad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36"/>
          <p:cNvGraphicFramePr/>
          <p:nvPr/>
        </p:nvGraphicFramePr>
        <p:xfrm>
          <a:off x="34920" y="1460520"/>
          <a:ext cx="8964720" cy="50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460520"/>
                    <a:ext cx="896472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2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199" name="Rectangle 4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Group 6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202" name="Rectangle 7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3" name="Picture 8" descr=""/>
            <p:cNvPicPr/>
            <p:nvPr/>
          </p:nvPicPr>
          <p:blipFill>
            <a:blip r:embed="rId3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9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Text Box 10"/>
          <p:cNvSpPr/>
          <p:nvPr/>
        </p:nvSpPr>
        <p:spPr>
          <a:xfrm>
            <a:off x="468360" y="189000"/>
            <a:ext cx="81532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La raccolta differenziata spinta: i risulta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2142"/>
                </a:solidFill>
                <a:latin typeface="FetteEngD"/>
              </a:rPr>
              <a:t>Confronto con il sistema precedente: i 6 Comu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Group 15"/>
          <p:cNvGrpSpPr/>
          <p:nvPr/>
        </p:nvGrpSpPr>
        <p:grpSpPr>
          <a:xfrm>
            <a:off x="2251800" y="1482480"/>
            <a:ext cx="783000" cy="912600"/>
            <a:chOff x="2251800" y="1482480"/>
            <a:chExt cx="783000" cy="912600"/>
          </a:xfrm>
        </p:grpSpPr>
        <p:sp>
          <p:nvSpPr>
            <p:cNvPr id="207" name="Text Box 16"/>
            <p:cNvSpPr/>
            <p:nvPr/>
          </p:nvSpPr>
          <p:spPr>
            <a:xfrm rot="17980800">
              <a:off x="2223720" y="1662840"/>
              <a:ext cx="5709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 rot="19068600">
              <a:off x="2608560" y="187308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Group 18"/>
          <p:cNvGrpSpPr/>
          <p:nvPr/>
        </p:nvGrpSpPr>
        <p:grpSpPr>
          <a:xfrm>
            <a:off x="3065400" y="3620880"/>
            <a:ext cx="900720" cy="790560"/>
            <a:chOff x="3065400" y="3620880"/>
            <a:chExt cx="900720" cy="790560"/>
          </a:xfrm>
        </p:grpSpPr>
        <p:sp>
          <p:nvSpPr>
            <p:cNvPr id="210" name="Text Box 19"/>
            <p:cNvSpPr/>
            <p:nvPr/>
          </p:nvSpPr>
          <p:spPr>
            <a:xfrm rot="12445800">
              <a:off x="3094920" y="4026960"/>
              <a:ext cx="5706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AutoShape 20"/>
            <p:cNvSpPr/>
            <p:nvPr/>
          </p:nvSpPr>
          <p:spPr>
            <a:xfrm rot="13533600">
              <a:off x="3535920" y="365652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217400" y="4019400"/>
            <a:ext cx="901080" cy="790560"/>
            <a:chOff x="4217400" y="4019400"/>
            <a:chExt cx="901080" cy="790560"/>
          </a:xfrm>
        </p:grpSpPr>
        <p:sp>
          <p:nvSpPr>
            <p:cNvPr id="213" name="Text Box 22"/>
            <p:cNvSpPr/>
            <p:nvPr/>
          </p:nvSpPr>
          <p:spPr>
            <a:xfrm rot="12445800">
              <a:off x="4246920" y="4425480"/>
              <a:ext cx="5709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AutoShape 23"/>
            <p:cNvSpPr/>
            <p:nvPr/>
          </p:nvSpPr>
          <p:spPr>
            <a:xfrm rot="13533600">
              <a:off x="4688280" y="405504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5441400" y="3876480"/>
            <a:ext cx="901080" cy="790560"/>
            <a:chOff x="5441400" y="3876480"/>
            <a:chExt cx="901080" cy="790560"/>
          </a:xfrm>
        </p:grpSpPr>
        <p:sp>
          <p:nvSpPr>
            <p:cNvPr id="216" name="Text Box 25"/>
            <p:cNvSpPr/>
            <p:nvPr/>
          </p:nvSpPr>
          <p:spPr>
            <a:xfrm rot="12445800">
              <a:off x="5470920" y="4282560"/>
              <a:ext cx="5709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AutoShape 26"/>
            <p:cNvSpPr/>
            <p:nvPr/>
          </p:nvSpPr>
          <p:spPr>
            <a:xfrm rot="13533600">
              <a:off x="5912280" y="391212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Group 27"/>
          <p:cNvGrpSpPr/>
          <p:nvPr/>
        </p:nvGrpSpPr>
        <p:grpSpPr>
          <a:xfrm>
            <a:off x="6809760" y="3948120"/>
            <a:ext cx="901080" cy="790560"/>
            <a:chOff x="6809760" y="3948120"/>
            <a:chExt cx="901080" cy="790560"/>
          </a:xfrm>
        </p:grpSpPr>
        <p:sp>
          <p:nvSpPr>
            <p:cNvPr id="219" name="Text Box 28"/>
            <p:cNvSpPr/>
            <p:nvPr/>
          </p:nvSpPr>
          <p:spPr>
            <a:xfrm rot="12445800">
              <a:off x="6839280" y="4354200"/>
              <a:ext cx="5709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AutoShape 29"/>
            <p:cNvSpPr/>
            <p:nvPr/>
          </p:nvSpPr>
          <p:spPr>
            <a:xfrm rot="13533600">
              <a:off x="7280640" y="398376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Text Box 30"/>
          <p:cNvSpPr/>
          <p:nvPr/>
        </p:nvSpPr>
        <p:spPr>
          <a:xfrm>
            <a:off x="2484360" y="1700280"/>
            <a:ext cx="792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-66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32"/>
          <p:cNvSpPr/>
          <p:nvPr/>
        </p:nvSpPr>
        <p:spPr>
          <a:xfrm>
            <a:off x="3421080" y="3500280"/>
            <a:ext cx="863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23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3"/>
          <p:cNvSpPr/>
          <p:nvPr/>
        </p:nvSpPr>
        <p:spPr>
          <a:xfrm>
            <a:off x="4643280" y="3860640"/>
            <a:ext cx="86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83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34"/>
          <p:cNvSpPr/>
          <p:nvPr/>
        </p:nvSpPr>
        <p:spPr>
          <a:xfrm>
            <a:off x="6156360" y="3894120"/>
            <a:ext cx="863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14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35"/>
          <p:cNvSpPr/>
          <p:nvPr/>
        </p:nvSpPr>
        <p:spPr>
          <a:xfrm>
            <a:off x="7165800" y="3860640"/>
            <a:ext cx="11512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73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228" name="Rectangle 4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Group 6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231" name="Rectangle 7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" name="Picture 8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9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Text Box 10"/>
          <p:cNvSpPr/>
          <p:nvPr/>
        </p:nvSpPr>
        <p:spPr>
          <a:xfrm>
            <a:off x="468360" y="18900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La raccolta differenziata spinta: i risulta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2142"/>
                </a:solidFill>
                <a:latin typeface="FetteEngD"/>
              </a:rPr>
              <a:t>Comuni che hanno avviato la raccolta “porta a porta” nel novembre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4645080" y="4941720"/>
            <a:ext cx="468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FetteEngD"/>
              </a:rPr>
              <a:t>Rifiuti differenziati</a:t>
            </a:r>
            <a:r>
              <a:rPr b="0" lang="it-IT" sz="1600" spc="-1" strike="noStrike">
                <a:solidFill>
                  <a:srgbClr val="002142"/>
                </a:solidFill>
                <a:latin typeface="FetteEngD"/>
              </a:rPr>
              <a:t>: carta, vetro, imballaggi in plastica+lattine, organico, metalli, beni durevoli, verde, legno, lampade a fluorescenza, pile esaurite, ec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FetteEngD"/>
              </a:rPr>
              <a:t>Rifiuti indifferenziati</a:t>
            </a:r>
            <a:r>
              <a:rPr b="0" lang="it-IT" sz="1600" spc="-1" strike="noStrike">
                <a:solidFill>
                  <a:srgbClr val="002142"/>
                </a:solidFill>
                <a:latin typeface="FetteEngD"/>
              </a:rPr>
              <a:t>: secco residuo, ingombranti, rifiuti da spazzamento strad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Group 16"/>
          <p:cNvGrpSpPr/>
          <p:nvPr/>
        </p:nvGrpSpPr>
        <p:grpSpPr>
          <a:xfrm>
            <a:off x="468360" y="1700280"/>
            <a:ext cx="3816000" cy="4609440"/>
            <a:chOff x="468360" y="1700280"/>
            <a:chExt cx="3816000" cy="4609440"/>
          </a:xfrm>
        </p:grpSpPr>
        <p:sp>
          <p:nvSpPr>
            <p:cNvPr id="237" name="Text Box 17"/>
            <p:cNvSpPr/>
            <p:nvPr/>
          </p:nvSpPr>
          <p:spPr>
            <a:xfrm>
              <a:off x="468360" y="1700280"/>
              <a:ext cx="2862000" cy="4609440"/>
            </a:xfrm>
            <a:prstGeom prst="rect">
              <a:avLst/>
            </a:prstGeom>
            <a:solidFill>
              <a:srgbClr val="c1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BUTTRIO: </a:t>
              </a: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CAMINO AL T.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MORTEGLIAN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NIMI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PAVIA DI UD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PRADAMAN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REANA DEL ROJAL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REMANZACC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SEDEGLIAN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2142"/>
                  </a:solidFill>
                  <a:latin typeface="FetteEngD"/>
                </a:rPr>
                <a:t>VARM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2142"/>
                  </a:solidFill>
                  <a:latin typeface="FetteEngD"/>
                </a:rPr>
                <a:t>MEDIA 10 COMUN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2142"/>
                  </a:solidFill>
                  <a:latin typeface="FetteEngD"/>
                </a:rPr>
                <a:t>PRIMO SEMESTRE 20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18"/>
            <p:cNvSpPr/>
            <p:nvPr/>
          </p:nvSpPr>
          <p:spPr>
            <a:xfrm>
              <a:off x="3330360" y="1700280"/>
              <a:ext cx="954000" cy="46094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80,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6,9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3,7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2,9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9,6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9,3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8,2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7,9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74,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etteEngD"/>
                </a:rPr>
                <a:t>80,3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FetteEngD"/>
                </a:rPr>
                <a:t>77,6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39" name="Object 19"/>
          <p:cNvGraphicFramePr/>
          <p:nvPr/>
        </p:nvGraphicFramePr>
        <p:xfrm>
          <a:off x="4427640" y="2131920"/>
          <a:ext cx="4716360" cy="266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2131920"/>
                    <a:ext cx="471636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33"/>
          <p:cNvGraphicFramePr/>
          <p:nvPr/>
        </p:nvGraphicFramePr>
        <p:xfrm>
          <a:off x="142920" y="1428840"/>
          <a:ext cx="8893080" cy="502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8840"/>
                    <a:ext cx="889308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2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245" name="Rectangle 4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Group 6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248" name="Rectangle 7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9" name="Picture 8" descr=""/>
            <p:cNvPicPr/>
            <p:nvPr/>
          </p:nvPicPr>
          <p:blipFill>
            <a:blip r:embed="rId3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9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Text Box 10"/>
          <p:cNvSpPr/>
          <p:nvPr/>
        </p:nvSpPr>
        <p:spPr>
          <a:xfrm>
            <a:off x="468360" y="189000"/>
            <a:ext cx="81532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La raccolta differenziata spinta: i risulta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2142"/>
                </a:solidFill>
                <a:latin typeface="FetteEngD"/>
              </a:rPr>
              <a:t>Confronto con il sistema precedente: i 10 Comu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13"/>
          <p:cNvGrpSpPr/>
          <p:nvPr/>
        </p:nvGrpSpPr>
        <p:grpSpPr>
          <a:xfrm>
            <a:off x="2323080" y="1267200"/>
            <a:ext cx="783000" cy="912240"/>
            <a:chOff x="2323080" y="1267200"/>
            <a:chExt cx="783000" cy="912240"/>
          </a:xfrm>
        </p:grpSpPr>
        <p:sp>
          <p:nvSpPr>
            <p:cNvPr id="253" name="Text Box 14"/>
            <p:cNvSpPr/>
            <p:nvPr/>
          </p:nvSpPr>
          <p:spPr>
            <a:xfrm rot="17980800">
              <a:off x="2295360" y="1447200"/>
              <a:ext cx="5706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AutoShape 15"/>
            <p:cNvSpPr/>
            <p:nvPr/>
          </p:nvSpPr>
          <p:spPr>
            <a:xfrm rot="19068600">
              <a:off x="2679840" y="165744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Group 16"/>
          <p:cNvGrpSpPr/>
          <p:nvPr/>
        </p:nvGrpSpPr>
        <p:grpSpPr>
          <a:xfrm>
            <a:off x="3034800" y="3748680"/>
            <a:ext cx="943920" cy="739800"/>
            <a:chOff x="3034800" y="3748680"/>
            <a:chExt cx="943920" cy="739800"/>
          </a:xfrm>
        </p:grpSpPr>
        <p:sp>
          <p:nvSpPr>
            <p:cNvPr id="256" name="Text Box 17"/>
            <p:cNvSpPr/>
            <p:nvPr/>
          </p:nvSpPr>
          <p:spPr>
            <a:xfrm rot="13120200">
              <a:off x="3056040" y="4071600"/>
              <a:ext cx="5706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AutoShape 18"/>
            <p:cNvSpPr/>
            <p:nvPr/>
          </p:nvSpPr>
          <p:spPr>
            <a:xfrm rot="14207400">
              <a:off x="3542040" y="376596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Group 19"/>
          <p:cNvGrpSpPr/>
          <p:nvPr/>
        </p:nvGrpSpPr>
        <p:grpSpPr>
          <a:xfrm>
            <a:off x="4329360" y="3972240"/>
            <a:ext cx="947160" cy="731160"/>
            <a:chOff x="4329360" y="3972240"/>
            <a:chExt cx="947160" cy="731160"/>
          </a:xfrm>
        </p:grpSpPr>
        <p:sp>
          <p:nvSpPr>
            <p:cNvPr id="259" name="Text Box 20"/>
            <p:cNvSpPr/>
            <p:nvPr/>
          </p:nvSpPr>
          <p:spPr>
            <a:xfrm rot="13208400">
              <a:off x="4348440" y="4282920"/>
              <a:ext cx="5706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AutoShape 21"/>
            <p:cNvSpPr/>
            <p:nvPr/>
          </p:nvSpPr>
          <p:spPr>
            <a:xfrm rot="14295600">
              <a:off x="4839840" y="398664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5421600" y="3954600"/>
            <a:ext cx="943200" cy="741600"/>
            <a:chOff x="5421600" y="3954600"/>
            <a:chExt cx="943200" cy="741600"/>
          </a:xfrm>
        </p:grpSpPr>
        <p:sp>
          <p:nvSpPr>
            <p:cNvPr id="262" name="Text Box 23"/>
            <p:cNvSpPr/>
            <p:nvPr/>
          </p:nvSpPr>
          <p:spPr>
            <a:xfrm rot="13102200">
              <a:off x="5443200" y="4280040"/>
              <a:ext cx="5706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AutoShape 24"/>
            <p:cNvSpPr/>
            <p:nvPr/>
          </p:nvSpPr>
          <p:spPr>
            <a:xfrm rot="14189400">
              <a:off x="5928480" y="397296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Group 25"/>
          <p:cNvGrpSpPr/>
          <p:nvPr/>
        </p:nvGrpSpPr>
        <p:grpSpPr>
          <a:xfrm>
            <a:off x="6705720" y="3972240"/>
            <a:ext cx="947160" cy="731160"/>
            <a:chOff x="6705720" y="3972240"/>
            <a:chExt cx="947160" cy="731160"/>
          </a:xfrm>
        </p:grpSpPr>
        <p:sp>
          <p:nvSpPr>
            <p:cNvPr id="265" name="Text Box 26"/>
            <p:cNvSpPr/>
            <p:nvPr/>
          </p:nvSpPr>
          <p:spPr>
            <a:xfrm rot="13208400">
              <a:off x="6724800" y="4282920"/>
              <a:ext cx="5706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utoShape 27"/>
            <p:cNvSpPr/>
            <p:nvPr/>
          </p:nvSpPr>
          <p:spPr>
            <a:xfrm rot="14295600">
              <a:off x="7216200" y="398664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Text Box 28"/>
          <p:cNvSpPr/>
          <p:nvPr/>
        </p:nvSpPr>
        <p:spPr>
          <a:xfrm>
            <a:off x="2700360" y="2205000"/>
            <a:ext cx="792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-69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3419640" y="3645000"/>
            <a:ext cx="792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2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4716360" y="3821040"/>
            <a:ext cx="792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76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5867280" y="3821040"/>
            <a:ext cx="792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9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236000" y="3789360"/>
            <a:ext cx="1008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81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40"/>
          <p:cNvGraphicFramePr/>
          <p:nvPr/>
        </p:nvGraphicFramePr>
        <p:xfrm>
          <a:off x="755640" y="1301760"/>
          <a:ext cx="7508880" cy="39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01760"/>
                    <a:ext cx="75088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2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276" name="Rectangle 4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5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Group 6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279" name="Rectangle 7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0" name="Picture 8" descr=""/>
            <p:cNvPicPr/>
            <p:nvPr/>
          </p:nvPicPr>
          <p:blipFill>
            <a:blip r:embed="rId3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9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Text Box 10"/>
          <p:cNvSpPr/>
          <p:nvPr/>
        </p:nvSpPr>
        <p:spPr>
          <a:xfrm>
            <a:off x="468360" y="189000"/>
            <a:ext cx="81532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La raccolta differenziata spinta: i risulta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2142"/>
                </a:solidFill>
                <a:latin typeface="FetteEngD"/>
              </a:rPr>
              <a:t>Comuni con modello “terre alte”: il caso Lusev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826920" y="5300640"/>
            <a:ext cx="7417080" cy="100872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I risultati sono di particolare rilievo perché osservati nel periodo di avvio del servizio e durante il periodo estivo, dove la presenza di emigranti / turisti è più consist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20"/>
          <p:cNvGrpSpPr/>
          <p:nvPr/>
        </p:nvGrpSpPr>
        <p:grpSpPr>
          <a:xfrm>
            <a:off x="2828160" y="1122120"/>
            <a:ext cx="783000" cy="912600"/>
            <a:chOff x="2828160" y="1122120"/>
            <a:chExt cx="783000" cy="912600"/>
          </a:xfrm>
        </p:grpSpPr>
        <p:sp>
          <p:nvSpPr>
            <p:cNvPr id="285" name="Text Box 21"/>
            <p:cNvSpPr/>
            <p:nvPr/>
          </p:nvSpPr>
          <p:spPr>
            <a:xfrm rot="17980800">
              <a:off x="2800080" y="1302480"/>
              <a:ext cx="5709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AutoShape 22"/>
            <p:cNvSpPr/>
            <p:nvPr/>
          </p:nvSpPr>
          <p:spPr>
            <a:xfrm rot="19068600">
              <a:off x="3184920" y="151272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3"/>
          <p:cNvGrpSpPr/>
          <p:nvPr/>
        </p:nvGrpSpPr>
        <p:grpSpPr>
          <a:xfrm>
            <a:off x="3465360" y="3030840"/>
            <a:ext cx="945360" cy="736560"/>
            <a:chOff x="3465360" y="3030840"/>
            <a:chExt cx="945360" cy="736560"/>
          </a:xfrm>
        </p:grpSpPr>
        <p:sp>
          <p:nvSpPr>
            <p:cNvPr id="288" name="Text Box 24"/>
            <p:cNvSpPr/>
            <p:nvPr/>
          </p:nvSpPr>
          <p:spPr>
            <a:xfrm rot="13150800">
              <a:off x="3485520" y="3349080"/>
              <a:ext cx="5709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AutoShape 25"/>
            <p:cNvSpPr/>
            <p:nvPr/>
          </p:nvSpPr>
          <p:spPr>
            <a:xfrm rot="14238600">
              <a:off x="3974040" y="304704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Group 26"/>
          <p:cNvGrpSpPr/>
          <p:nvPr/>
        </p:nvGrpSpPr>
        <p:grpSpPr>
          <a:xfrm>
            <a:off x="4330800" y="3030840"/>
            <a:ext cx="945360" cy="736560"/>
            <a:chOff x="4330800" y="3030840"/>
            <a:chExt cx="945360" cy="736560"/>
          </a:xfrm>
        </p:grpSpPr>
        <p:sp>
          <p:nvSpPr>
            <p:cNvPr id="291" name="Text Box 27"/>
            <p:cNvSpPr/>
            <p:nvPr/>
          </p:nvSpPr>
          <p:spPr>
            <a:xfrm rot="13150800">
              <a:off x="4351320" y="3349080"/>
              <a:ext cx="5706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AutoShape 28"/>
            <p:cNvSpPr/>
            <p:nvPr/>
          </p:nvSpPr>
          <p:spPr>
            <a:xfrm rot="14238600">
              <a:off x="4839480" y="304704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29"/>
          <p:cNvGrpSpPr/>
          <p:nvPr/>
        </p:nvGrpSpPr>
        <p:grpSpPr>
          <a:xfrm>
            <a:off x="5540400" y="2725920"/>
            <a:ext cx="803880" cy="733680"/>
            <a:chOff x="5540400" y="2725920"/>
            <a:chExt cx="803880" cy="733680"/>
          </a:xfrm>
        </p:grpSpPr>
        <p:sp>
          <p:nvSpPr>
            <p:cNvPr id="294" name="Text Box 30"/>
            <p:cNvSpPr/>
            <p:nvPr/>
          </p:nvSpPr>
          <p:spPr>
            <a:xfrm rot="16609200">
              <a:off x="5421600" y="2891160"/>
              <a:ext cx="5709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AutoShape 31"/>
            <p:cNvSpPr/>
            <p:nvPr/>
          </p:nvSpPr>
          <p:spPr>
            <a:xfrm rot="17696400">
              <a:off x="5910120" y="297900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32"/>
          <p:cNvGrpSpPr/>
          <p:nvPr/>
        </p:nvGrpSpPr>
        <p:grpSpPr>
          <a:xfrm>
            <a:off x="6418080" y="3030840"/>
            <a:ext cx="945360" cy="736560"/>
            <a:chOff x="6418080" y="3030840"/>
            <a:chExt cx="945360" cy="736560"/>
          </a:xfrm>
        </p:grpSpPr>
        <p:sp>
          <p:nvSpPr>
            <p:cNvPr id="297" name="Text Box 33"/>
            <p:cNvSpPr/>
            <p:nvPr/>
          </p:nvSpPr>
          <p:spPr>
            <a:xfrm rot="13150800">
              <a:off x="6438240" y="3349080"/>
              <a:ext cx="5709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+32,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AutoShape 34"/>
            <p:cNvSpPr/>
            <p:nvPr/>
          </p:nvSpPr>
          <p:spPr>
            <a:xfrm rot="14238600">
              <a:off x="6926760" y="3047040"/>
              <a:ext cx="303120" cy="482400"/>
            </a:xfrm>
            <a:prstGeom prst="downArrow">
              <a:avLst>
                <a:gd name="adj1" fmla="val 44639"/>
                <a:gd name="adj2" fmla="val 55244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Text Box 35"/>
          <p:cNvSpPr/>
          <p:nvPr/>
        </p:nvSpPr>
        <p:spPr>
          <a:xfrm>
            <a:off x="3203640" y="2060640"/>
            <a:ext cx="792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-77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36"/>
          <p:cNvSpPr/>
          <p:nvPr/>
        </p:nvSpPr>
        <p:spPr>
          <a:xfrm>
            <a:off x="3851280" y="2924280"/>
            <a:ext cx="9367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193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37"/>
          <p:cNvSpPr/>
          <p:nvPr/>
        </p:nvSpPr>
        <p:spPr>
          <a:xfrm>
            <a:off x="4714920" y="2924280"/>
            <a:ext cx="865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+224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38"/>
          <p:cNvSpPr/>
          <p:nvPr/>
        </p:nvSpPr>
        <p:spPr>
          <a:xfrm>
            <a:off x="5724360" y="2813040"/>
            <a:ext cx="792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2142"/>
                </a:solidFill>
                <a:latin typeface="Times New Roman"/>
              </a:rPr>
              <a:t>-2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7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304" name="Rectangle 18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19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Group 20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307" name="Rectangle 21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8" name="Picture 22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Rectangle 23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6048720" cy="3645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68360" y="270000"/>
            <a:ext cx="74883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raccolta differenziata dell’umi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d03c1e"/>
                </a:solidFill>
                <a:latin typeface="Times New Roman"/>
              </a:rPr>
              <a:t>Obiettivo: produzione di compost di qualit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d03c1e"/>
                </a:solidFill>
                <a:latin typeface="Times New Roman"/>
              </a:rPr>
              <a:t>A&amp;T 2000 sta valutando il recupero energeti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5445000"/>
            <a:ext cx="7490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d03c1e"/>
                </a:solidFill>
                <a:latin typeface="Times New Roman"/>
              </a:rPr>
              <a:t>Entro il 2010 entrerà in esercizio l’impianto di compostaggio in loc. “Pannellia” di Codro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684360" y="981000"/>
            <a:ext cx="7924680" cy="527760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2142"/>
                </a:solidFill>
                <a:latin typeface="Arial Rounded MT Bold"/>
                <a:ea typeface="Arial"/>
              </a:rPr>
              <a:t>Raggiungimento fin dall’avvio del servizio degli obiettivi di legge richiesti per il 2012 (risultati costantemente superiori al 7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2142"/>
                </a:solidFill>
                <a:latin typeface="Arial Rounded MT Bold"/>
                <a:ea typeface="Arial"/>
              </a:rPr>
              <a:t>Migliore qualità del materiale raccolto: percentuali di impurità 1/3 o 1/4 rispetto  alle raccolte differenziate con cassonetto stradale non controll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2a09a3"/>
                </a:solidFill>
                <a:latin typeface="Arial Rounded MT Bold"/>
                <a:ea typeface="Arial"/>
              </a:rPr>
              <a:t>Maggiore consapevolezza dell’utente nella gestione dei rifiut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2a09a3"/>
                </a:solidFill>
                <a:latin typeface="Arial Rounded MT Bold"/>
                <a:ea typeface="Arial"/>
              </a:rPr>
              <a:t>Equità verso l’utenza; certezza dell’impegno di tutti a fare la raccolta differenziata; possibilità di individuare i trasgresso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771f38"/>
                </a:solidFill>
                <a:latin typeface="Arial Rounded MT Bold"/>
              </a:rPr>
              <a:t>Possibilità di utilizzare impianti di selezione più semplici e specializzati, </a:t>
            </a:r>
            <a:r>
              <a:rPr b="0" lang="it-IT" sz="1800" spc="-1" strike="noStrike" u="sng">
                <a:solidFill>
                  <a:srgbClr val="771f38"/>
                </a:solidFill>
                <a:uFillTx/>
                <a:latin typeface="Arial Rounded MT Bold"/>
              </a:rPr>
              <a:t>a valle delle raccolte degli imballaggi e carta</a:t>
            </a:r>
            <a:r>
              <a:rPr b="0" lang="it-IT" sz="1800" spc="-1" strike="noStrike">
                <a:solidFill>
                  <a:srgbClr val="771f38"/>
                </a:solidFill>
                <a:latin typeface="Arial Rounded MT Bold"/>
              </a:rPr>
              <a:t>, in grado di eliminare l’esigua quantità di scarti a costi inferio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771f38"/>
                </a:solidFill>
                <a:latin typeface="Arial Rounded MT Bold"/>
              </a:rPr>
              <a:t>Selezione in tali impianti con elevate rese in materiali riciclabi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2142"/>
                </a:solidFill>
                <a:latin typeface="Arial Rounded MT Bold"/>
                <a:ea typeface="Arial"/>
              </a:rPr>
              <a:t>Nell’intero bacino di A&amp;T 2000 non vi è stato un aumento dei rifiuti abbandonati sul territorio rispetto al modello con cassonetti strad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316" name="Rectangle 5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319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Text Box 11"/>
          <p:cNvSpPr/>
          <p:nvPr/>
        </p:nvSpPr>
        <p:spPr>
          <a:xfrm>
            <a:off x="468360" y="260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etteEngD"/>
              </a:rPr>
              <a:t>La raccolta differenziata spinta: benef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250920" y="1268280"/>
            <a:ext cx="8642160" cy="460548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2142"/>
                </a:solidFill>
                <a:latin typeface="Arial Rounded MT Bold"/>
              </a:rPr>
              <a:t>Possibilità di personalizzare il servizio a seconda delle esigen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2142"/>
                </a:solidFill>
                <a:latin typeface="Arial Rounded MT Bold"/>
              </a:rPr>
              <a:t>I due modelli hanno permesso di adempiere alla normativa sulla </a:t>
            </a:r>
            <a:r>
              <a:rPr b="1" lang="it-IT" sz="1800" spc="-1" strike="noStrike">
                <a:solidFill>
                  <a:srgbClr val="002142"/>
                </a:solidFill>
                <a:latin typeface="Arial Rounded MT Bold"/>
              </a:rPr>
              <a:t>tariffazione puntuale</a:t>
            </a:r>
            <a:r>
              <a:rPr b="0" lang="it-IT" sz="1800" spc="-1" strike="noStrike">
                <a:solidFill>
                  <a:srgbClr val="002142"/>
                </a:solidFill>
                <a:latin typeface="Arial Rounded MT Bold"/>
              </a:rPr>
              <a:t> (art. 195, comma 2, lettera e) del D.Lgs 152/06, modificato dal D.Lgs 4/2008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179280">
              <a:lnSpc>
                <a:spcPct val="100000"/>
              </a:lnSpc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179280">
              <a:lnSpc>
                <a:spcPct val="100000"/>
              </a:lnSpc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2142"/>
                </a:solidFill>
                <a:latin typeface="Arial Rounded MT Bold"/>
              </a:rPr>
              <a:t>Nel 2009 i Comuni di Codroipo, Mortegliano, San Giovanni al Natisone e Varmo hanno adottato la tariffazione puntuale</a:t>
            </a:r>
            <a:r>
              <a:rPr b="0" lang="it-IT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1800" spc="-1" strike="noStrike">
                <a:solidFill>
                  <a:srgbClr val="002142"/>
                </a:solidFill>
                <a:latin typeface="Arial Rounded MT Bold"/>
              </a:rPr>
              <a:t>per le utenze non domestich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179280">
              <a:lnSpc>
                <a:spcPct val="100000"/>
              </a:lnSpc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179280">
              <a:lnSpc>
                <a:spcPct val="100000"/>
              </a:lnSpc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2142"/>
                </a:solidFill>
                <a:latin typeface="Arial Rounded MT Bold"/>
              </a:rPr>
              <a:t>Nel 2010 la introdurranno i Comuni di Corno di Rosazzo, Pozzuolo del Friuli, Pasian di Prato e Martignacco</a:t>
            </a:r>
            <a:r>
              <a:rPr b="0" lang="it-IT" sz="2000" spc="-1" strike="noStrike">
                <a:solidFill>
                  <a:srgbClr val="002142"/>
                </a:solidFill>
                <a:latin typeface="FetteEng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179280">
              <a:lnSpc>
                <a:spcPct val="100000"/>
              </a:lnSpc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179280">
              <a:lnSpc>
                <a:spcPct val="100000"/>
              </a:lnSpc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Arial Rounded MT Bold"/>
              </a:rPr>
              <a:t>Sarà possibile in seguito l’applicazione della tariffazione puntuale anche alle utenze domestiche</a:t>
            </a:r>
            <a:r>
              <a:rPr b="0" lang="it-IT" sz="2000" spc="-1" strike="noStrike">
                <a:solidFill>
                  <a:srgbClr val="002142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6040"/>
                <a:tab algn="l" pos="44784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326" name="Rectangle 5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329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0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Text Box 11"/>
          <p:cNvSpPr/>
          <p:nvPr/>
        </p:nvSpPr>
        <p:spPr>
          <a:xfrm>
            <a:off x="468360" y="549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2142"/>
                </a:solidFill>
                <a:latin typeface="FetteEngD"/>
              </a:rPr>
              <a:t>La raccolta differenziata spinta: benef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684360" y="1035000"/>
            <a:ext cx="7924680" cy="448308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La raccolta “porta a porta” ha un costo maggiore di quella tramite cassonetto stradale per la minore velocità di raccolta e perché sono necessarie più prese di rifiu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I ricavi delle varie frazioni merceologiche sono maggiori sia per le maggiori quantità raccolte sia per le loro alte percentuali di purez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Oggi, la raccolta “porta a porta” di carta, plastica + lattine, vetro, organico e secco residuo ha un costo totale non superiore ad altri sistemi ibridi dove convivono il “porta a porta” e cassonetti stradal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Il costo della raccolta “porta a porta” può essere considerato una valida base di confronto economico con tutti gli altri modelli di raccolta strad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0" y="0"/>
            <a:ext cx="9144000" cy="189000"/>
            <a:chOff x="0" y="0"/>
            <a:chExt cx="9144000" cy="189000"/>
          </a:xfrm>
        </p:grpSpPr>
        <p:sp>
          <p:nvSpPr>
            <p:cNvPr id="336" name="Rectangle 5"/>
            <p:cNvSpPr/>
            <p:nvPr/>
          </p:nvSpPr>
          <p:spPr>
            <a:xfrm rot="5400000">
              <a:off x="448200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Rectangle 6"/>
            <p:cNvSpPr/>
            <p:nvPr/>
          </p:nvSpPr>
          <p:spPr>
            <a:xfrm>
              <a:off x="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339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0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Text Box 11"/>
          <p:cNvSpPr/>
          <p:nvPr/>
        </p:nvSpPr>
        <p:spPr>
          <a:xfrm>
            <a:off x="468360" y="328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etteEngD"/>
              </a:rPr>
              <a:t>La raccolta differenziata spinta: c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684360" y="1035000"/>
            <a:ext cx="8135640" cy="570276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Il sistema di raccolta “porta a porta” è un po’ più sensibile al valore commerciale dei materiali recuperati che dipende dalle variazioni di mercato: i ricavi sono maggiori quando il mercato è attivo</a:t>
            </a: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 (criticità comune a tutte le raccolte differenzia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Il sistema impiantistico regionale è suscettibile di miglioramento in quanto non ancora sufficientemente specializzato per selezionare a costi bassi le singole frazioni merceologiche di rifiuti al elevata purez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Il sistema CONAI, per l’erogazione dei contributi, non fa distinzioni tra la raccolta stradale e la raccolta in “ecopiazzole”: attualmente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	</a:t>
            </a: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per avere la certezza del massimo contributo CONAI, gli imballaggi in plastica e vetro vengono preseleziona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2142"/>
                </a:solidFill>
                <a:latin typeface="FetteEngD"/>
                <a:ea typeface="Arial"/>
              </a:rPr>
              <a:t>Con la prossima gestione dei centri di raccolta ai sensi del DM 13.5.2009 tale preselezione potrebbe essere superfl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0" y="0"/>
            <a:ext cx="9144000" cy="189000"/>
            <a:chOff x="0" y="0"/>
            <a:chExt cx="9144000" cy="189000"/>
          </a:xfrm>
        </p:grpSpPr>
        <p:sp>
          <p:nvSpPr>
            <p:cNvPr id="346" name="Rectangle 5"/>
            <p:cNvSpPr/>
            <p:nvPr/>
          </p:nvSpPr>
          <p:spPr>
            <a:xfrm rot="5400000">
              <a:off x="448200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>
              <a:off x="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349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0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Text Box 11"/>
          <p:cNvSpPr/>
          <p:nvPr/>
        </p:nvSpPr>
        <p:spPr>
          <a:xfrm>
            <a:off x="468360" y="3286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FetteEngD"/>
              </a:rPr>
              <a:t>Considerazioni fin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539640" y="40464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Il bacino A&amp;T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69" name="Rectangle 5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72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Text Box 14"/>
          <p:cNvSpPr/>
          <p:nvPr/>
        </p:nvSpPr>
        <p:spPr>
          <a:xfrm>
            <a:off x="611280" y="1160640"/>
            <a:ext cx="7848360" cy="137340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7000"/>
              </a:lnSpc>
              <a:buClr>
                <a:srgbClr val="002142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</a:rPr>
              <a:t>29 Comuni so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7000"/>
              </a:lnSpc>
              <a:buClr>
                <a:srgbClr val="002142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7000"/>
              </a:lnSpc>
              <a:buClr>
                <a:srgbClr val="002142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</a:rPr>
              <a:t>23 Comuni hanno adottato il modello di raccolta differenzi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7000"/>
              </a:lnSpc>
              <a:buClr>
                <a:srgbClr val="002142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</a:rPr>
              <a:t>spinta tra novembre 2007 e ottobre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16" descr="Mappa bacino_NO PAP"/>
          <p:cNvPicPr/>
          <p:nvPr/>
        </p:nvPicPr>
        <p:blipFill>
          <a:blip r:embed="rId2"/>
          <a:stretch/>
        </p:blipFill>
        <p:spPr>
          <a:xfrm>
            <a:off x="2249640" y="2309760"/>
            <a:ext cx="4554360" cy="4071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8"/>
          <p:cNvSpPr/>
          <p:nvPr/>
        </p:nvSpPr>
        <p:spPr>
          <a:xfrm>
            <a:off x="7020000" y="5672160"/>
            <a:ext cx="1944720" cy="449640"/>
          </a:xfrm>
          <a:prstGeom prst="rect">
            <a:avLst/>
          </a:prstGeom>
          <a:noFill/>
          <a:ln w="9360">
            <a:solidFill>
              <a:srgbClr val="0021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67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2142"/>
                </a:solidFill>
                <a:latin typeface="Arial Rounded MT Bold"/>
              </a:rPr>
              <a:t>In giallo: Comuni con raccolta differenziata sp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1"/>
          <p:cNvSpPr/>
          <p:nvPr/>
        </p:nvSpPr>
        <p:spPr>
          <a:xfrm>
            <a:off x="611280" y="3068640"/>
            <a:ext cx="7924680" cy="311256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Nel bacino di competenza, A&amp;T 2000 ha adottato i seguenti modell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FetteEng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Raccolta “porta a porta” integr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FetteEng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Raccolta differenziata spinta tramite conferimento stradale controllato (modello “terre alt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	</a:t>
            </a:r>
            <a:r>
              <a:rPr b="0" i="1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Nei Comuni con territorio eterogeneo viene adottato un mix dei due siste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Group 17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81" name="Rectangle 18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19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Group 20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84" name="Rectangle 21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5" name="Picture 22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23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468360" y="692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La raccolta differenziata spinta: i modelli</a:t>
            </a:r>
            <a:r>
              <a:rPr b="1" lang="en-GB" sz="3200" spc="-1" strike="noStrike">
                <a:solidFill>
                  <a:srgbClr val="002142"/>
                </a:solidFill>
                <a:latin typeface="FetteEng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628640"/>
            <a:ext cx="756144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5ab4"/>
                </a:solidFill>
                <a:latin typeface="Times New Roman"/>
              </a:rPr>
              <a:t>La scelta del modello da adottare dipende d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7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5ab4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5ab4"/>
                </a:solidFill>
                <a:latin typeface="Times New Roman"/>
              </a:rPr>
              <a:t>obiettivi da raggiung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7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5ab4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5ab4"/>
                </a:solidFill>
                <a:latin typeface="Times New Roman"/>
              </a:rPr>
              <a:t>contesto sociale ed urbani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7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5ab4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5ab4"/>
                </a:solidFill>
                <a:latin typeface="Times New Roman"/>
              </a:rPr>
              <a:t>orografia del territorio e densità abit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84360" y="1946160"/>
            <a:ext cx="7924680" cy="405792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Eliminazione di tutti i contenitori strad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Istituzione della raccolta differenziata della frazione orga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Dotazione domiciliare delle attrezz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Raccolta “porta a porta” delle principali tipologie di rifiu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Organico umido: due volte a settim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Carta: ogni 15 gior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Imballaggi in plastica + lattine: ogni 15 gior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Vetro: ogni 15 gior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Secco residuo: una volta a settim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92" name="Rectangle 5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95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Text Box 11"/>
          <p:cNvSpPr/>
          <p:nvPr/>
        </p:nvSpPr>
        <p:spPr>
          <a:xfrm>
            <a:off x="468360" y="549360"/>
            <a:ext cx="815328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4491c"/>
              </a:buClr>
              <a:buFont typeface="FetteEng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Raccolta “porta a porta”integr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	</a:t>
            </a: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modalità del servizio</a:t>
            </a:r>
            <a:r>
              <a:rPr b="1" lang="en-GB" sz="3200" spc="-1" strike="noStrike">
                <a:solidFill>
                  <a:srgbClr val="002142"/>
                </a:solidFill>
                <a:latin typeface="FetteEng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84360" y="1844640"/>
            <a:ext cx="7416720" cy="100872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I rifiuti, precedentemente separati in casa dagli utenti, vengono posizionati sulla pubblica via in appositi contenitori e raccolti secondo un calendario prestabil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102" name="Rectangle 5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105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Text Box 11"/>
          <p:cNvSpPr/>
          <p:nvPr/>
        </p:nvSpPr>
        <p:spPr>
          <a:xfrm>
            <a:off x="468360" y="549360"/>
            <a:ext cx="81360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800"/>
              </a:spcBef>
              <a:buClr>
                <a:srgbClr val="64491c"/>
              </a:buClr>
              <a:buFont typeface="FetteEng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Raccolta “porta a porta”integra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    </a:t>
            </a:r>
            <a:r>
              <a:rPr b="1" lang="it-IT" sz="2400" spc="-1" strike="noStrike">
                <a:solidFill>
                  <a:srgbClr val="002142"/>
                </a:solidFill>
                <a:latin typeface="FetteEngD"/>
              </a:rPr>
              <a:t>è necessaria una capillare campagna di sensibilizzazione</a:t>
            </a:r>
            <a:r>
              <a:rPr b="1" lang="en-GB" sz="2400" spc="-1" strike="noStrike">
                <a:solidFill>
                  <a:srgbClr val="002142"/>
                </a:solidFill>
                <a:latin typeface="FetteEngD"/>
              </a:rPr>
              <a:t> dell’ut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12" descr="CAN_3445"/>
          <p:cNvPicPr/>
          <p:nvPr/>
        </p:nvPicPr>
        <p:blipFill>
          <a:blip r:embed="rId2"/>
          <a:stretch/>
        </p:blipFill>
        <p:spPr>
          <a:xfrm>
            <a:off x="2627280" y="3068640"/>
            <a:ext cx="3564000" cy="237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AN_3478"/>
          <p:cNvPicPr/>
          <p:nvPr/>
        </p:nvPicPr>
        <p:blipFill>
          <a:blip r:embed="rId3"/>
          <a:stretch/>
        </p:blipFill>
        <p:spPr>
          <a:xfrm>
            <a:off x="6732720" y="3500280"/>
            <a:ext cx="22669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Line 16"/>
          <p:cNvSpPr/>
          <p:nvPr/>
        </p:nvSpPr>
        <p:spPr>
          <a:xfrm>
            <a:off x="6229440" y="429264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1979640" y="4292640"/>
            <a:ext cx="64764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21" descr="conferimento carta 2"/>
          <p:cNvPicPr/>
          <p:nvPr/>
        </p:nvPicPr>
        <p:blipFill>
          <a:blip r:embed="rId4"/>
          <a:stretch/>
        </p:blipFill>
        <p:spPr>
          <a:xfrm>
            <a:off x="395280" y="3068640"/>
            <a:ext cx="1908360" cy="143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novembre pag mese"/>
          <p:cNvPicPr/>
          <p:nvPr/>
        </p:nvPicPr>
        <p:blipFill>
          <a:blip r:embed="rId5"/>
          <a:stretch/>
        </p:blipFill>
        <p:spPr>
          <a:xfrm>
            <a:off x="1031760" y="4508640"/>
            <a:ext cx="12924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84360" y="1946160"/>
            <a:ext cx="7924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Utenze domestiche</a:t>
            </a: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Utenze non domestiche</a:t>
            </a: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 (aziende, scuole, strutture sanitarie, ecc.): personalizzazione del servizio con la possibilità di richiedere contenitori di varie dimensioni a seconda delle esigen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118" name="Rectangle 5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121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2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Text Box 11"/>
          <p:cNvSpPr/>
          <p:nvPr/>
        </p:nvSpPr>
        <p:spPr>
          <a:xfrm>
            <a:off x="468360" y="54936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etteEngD"/>
              </a:rPr>
              <a:t>1. </a:t>
            </a: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Raccolta “porta a porta”integrale: attrezzature fornite agli utenti</a:t>
            </a:r>
            <a:r>
              <a:rPr b="1" lang="en-GB" sz="3200" spc="-1" strike="noStrike">
                <a:solidFill>
                  <a:srgbClr val="002142"/>
                </a:solidFill>
                <a:latin typeface="FetteEng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12" descr="CARTA - bidoncino da 50lt"/>
          <p:cNvPicPr/>
          <p:nvPr/>
        </p:nvPicPr>
        <p:blipFill>
          <a:blip r:embed="rId2"/>
          <a:stretch/>
        </p:blipFill>
        <p:spPr>
          <a:xfrm>
            <a:off x="826920" y="2349360"/>
            <a:ext cx="1003320" cy="1162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IMB IN PLASTICA - sacchetto"/>
          <p:cNvPicPr/>
          <p:nvPr/>
        </p:nvPicPr>
        <p:blipFill>
          <a:blip r:embed="rId3"/>
          <a:stretch/>
        </p:blipFill>
        <p:spPr>
          <a:xfrm>
            <a:off x="2195640" y="2349360"/>
            <a:ext cx="86832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VETRO - bidoncino da 35lt"/>
          <p:cNvPicPr/>
          <p:nvPr/>
        </p:nvPicPr>
        <p:blipFill>
          <a:blip r:embed="rId4"/>
          <a:stretch/>
        </p:blipFill>
        <p:spPr>
          <a:xfrm>
            <a:off x="3411360" y="2349360"/>
            <a:ext cx="87336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ORGANICO - bidoncino da 25lt"/>
          <p:cNvPicPr/>
          <p:nvPr/>
        </p:nvPicPr>
        <p:blipFill>
          <a:blip r:embed="rId5"/>
          <a:stretch/>
        </p:blipFill>
        <p:spPr>
          <a:xfrm>
            <a:off x="4778280" y="2349360"/>
            <a:ext cx="873360" cy="115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ORGANICO-cestino da sottolavello"/>
          <p:cNvPicPr/>
          <p:nvPr/>
        </p:nvPicPr>
        <p:blipFill>
          <a:blip r:embed="rId6"/>
          <a:stretch/>
        </p:blipFill>
        <p:spPr>
          <a:xfrm>
            <a:off x="5611680" y="2852640"/>
            <a:ext cx="615960" cy="64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ORGANICO - sacchetto biodegradabile in mater-bi"/>
          <p:cNvPicPr/>
          <p:nvPr/>
        </p:nvPicPr>
        <p:blipFill>
          <a:blip r:embed="rId7"/>
          <a:stretch/>
        </p:blipFill>
        <p:spPr>
          <a:xfrm>
            <a:off x="6251400" y="2924280"/>
            <a:ext cx="552600" cy="57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SECCO RESIDUO - sacchetti Utenze Domestiche"/>
          <p:cNvPicPr/>
          <p:nvPr/>
        </p:nvPicPr>
        <p:blipFill>
          <a:blip r:embed="rId8"/>
          <a:stretch/>
        </p:blipFill>
        <p:spPr>
          <a:xfrm>
            <a:off x="7466040" y="2349360"/>
            <a:ext cx="922320" cy="1150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CARTA - bidone da 240lt"/>
          <p:cNvPicPr/>
          <p:nvPr/>
        </p:nvPicPr>
        <p:blipFill>
          <a:blip r:embed="rId9"/>
          <a:stretch/>
        </p:blipFill>
        <p:spPr>
          <a:xfrm>
            <a:off x="1519200" y="4869000"/>
            <a:ext cx="1036800" cy="134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VETRO - bidone da 240 lt"/>
          <p:cNvPicPr/>
          <p:nvPr/>
        </p:nvPicPr>
        <p:blipFill>
          <a:blip r:embed="rId10"/>
          <a:stretch/>
        </p:blipFill>
        <p:spPr>
          <a:xfrm>
            <a:off x="3132000" y="4869000"/>
            <a:ext cx="10558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SECCO RESIDUO o CARTA- cassonetto 1100"/>
          <p:cNvPicPr/>
          <p:nvPr/>
        </p:nvPicPr>
        <p:blipFill>
          <a:blip r:embed="rId11"/>
          <a:stretch/>
        </p:blipFill>
        <p:spPr>
          <a:xfrm>
            <a:off x="6084720" y="4738680"/>
            <a:ext cx="1582920" cy="1569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ORGANICO - bidone da 240lt"/>
          <p:cNvPicPr/>
          <p:nvPr/>
        </p:nvPicPr>
        <p:blipFill>
          <a:blip r:embed="rId12"/>
          <a:stretch/>
        </p:blipFill>
        <p:spPr>
          <a:xfrm>
            <a:off x="4643280" y="4869000"/>
            <a:ext cx="99396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2492280"/>
            <a:ext cx="7925040" cy="320004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Istituzione di punti di raccolta stradale con appositi contenitori per i principali rifiuti di provenienza domestica (organico umido, carta, imballaggi in plastica + lattine, vetro e secco residu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Sistema di conferimento controllat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Contenitori dotati di serratura o apposite aper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Secco residuo: contenitori dotati di dispositivo per identificazione utente e registrazione conferime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2142"/>
                </a:solidFill>
                <a:latin typeface="FetteEngD"/>
                <a:ea typeface="Arial"/>
              </a:rPr>
              <a:t>Utenze non domestiche: personalizzazione del servizio e raccolta “porta a por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139" name="Rectangle 5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142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3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Text Box 11"/>
          <p:cNvSpPr/>
          <p:nvPr/>
        </p:nvSpPr>
        <p:spPr>
          <a:xfrm>
            <a:off x="468360" y="333360"/>
            <a:ext cx="8153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etteEngD"/>
              </a:rPr>
              <a:t>2. </a:t>
            </a: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Raccolta differenziata spinta tramite </a:t>
            </a:r>
            <a:r>
              <a:rPr b="1" i="1" lang="it-IT" sz="2800" spc="-1" strike="noStrike">
                <a:solidFill>
                  <a:srgbClr val="002142"/>
                </a:solidFill>
                <a:latin typeface="FetteEngD"/>
              </a:rPr>
              <a:t>conferimento stradale controlla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2142"/>
                </a:solidFill>
                <a:latin typeface="FetteEngD"/>
              </a:rPr>
              <a:t> </a:t>
            </a:r>
            <a:r>
              <a:rPr b="1" i="1" lang="it-IT" sz="2800" spc="-1" strike="noStrike">
                <a:solidFill>
                  <a:srgbClr val="002142"/>
                </a:solidFill>
                <a:latin typeface="FetteEngD"/>
              </a:rPr>
              <a:t>modalità</a:t>
            </a: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3" descr="P2040050"/>
          <p:cNvPicPr/>
          <p:nvPr/>
        </p:nvPicPr>
        <p:blipFill>
          <a:blip r:embed="rId2"/>
          <a:stretch/>
        </p:blipFill>
        <p:spPr>
          <a:xfrm>
            <a:off x="6877080" y="836640"/>
            <a:ext cx="2158920" cy="162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cassonetto calotta profilo"/>
          <p:cNvPicPr/>
          <p:nvPr/>
        </p:nvPicPr>
        <p:blipFill>
          <a:blip r:embed="rId3"/>
          <a:stretch/>
        </p:blipFill>
        <p:spPr>
          <a:xfrm>
            <a:off x="7958160" y="3933720"/>
            <a:ext cx="8604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Cassonetto carta Lusevera e Taipana"/>
          <p:cNvPicPr/>
          <p:nvPr/>
        </p:nvPicPr>
        <p:blipFill>
          <a:blip r:embed="rId4"/>
          <a:stretch/>
        </p:blipFill>
        <p:spPr>
          <a:xfrm>
            <a:off x="8101080" y="2924280"/>
            <a:ext cx="7016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84360" y="2060640"/>
            <a:ext cx="79246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2142"/>
                </a:solidFill>
                <a:latin typeface="FetteEngD"/>
              </a:rPr>
              <a:t>Utenze domestiche</a:t>
            </a:r>
            <a:r>
              <a:rPr b="0" lang="it-IT" sz="2400" spc="-1" strike="noStrike">
                <a:solidFill>
                  <a:srgbClr val="002142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2142"/>
                </a:solidFill>
                <a:latin typeface="FetteEngD"/>
                <a:ea typeface="Arial"/>
              </a:rPr>
              <a:t>Chiave magnetica per il                          Chiave per il cassonetto                               Kit e chiave per il cassonet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2142"/>
                </a:solidFill>
                <a:latin typeface="FetteEngD"/>
                <a:ea typeface="Arial"/>
              </a:rPr>
              <a:t>cassonetto del secco residuo                            del vetro                                                        dell’organ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2142"/>
                </a:solidFill>
                <a:latin typeface="FetteEngD"/>
              </a:rPr>
              <a:t>Utenze non domestiche</a:t>
            </a:r>
            <a:r>
              <a:rPr b="0" lang="it-IT" sz="2000" spc="-1" strike="noStrike">
                <a:solidFill>
                  <a:srgbClr val="002142"/>
                </a:solidFill>
                <a:latin typeface="FetteEngD"/>
              </a:rPr>
              <a:t> (aziende, scuole, strutture sanitarie, ecc.): personalizzazione del servizio con la possibilità di richiedere contenitori di varie dimensioni a seconda delle esigen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759280" y="3905280"/>
            <a:ext cx="30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152" name="Rectangle 5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7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155" name="Rectangle 8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6" name="Picture 9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0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Text Box 11"/>
          <p:cNvSpPr/>
          <p:nvPr/>
        </p:nvSpPr>
        <p:spPr>
          <a:xfrm>
            <a:off x="468360" y="33336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142"/>
                </a:solidFill>
                <a:latin typeface="FetteEngD"/>
              </a:rPr>
              <a:t>2. Raccolta differenziata spinta tramite conferimento stradale controllato: cosa viene fornito alle utenz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4" descr="CARTA - bidone da 240lt"/>
          <p:cNvPicPr/>
          <p:nvPr/>
        </p:nvPicPr>
        <p:blipFill>
          <a:blip r:embed="rId2"/>
          <a:stretch/>
        </p:blipFill>
        <p:spPr>
          <a:xfrm>
            <a:off x="1519200" y="4964040"/>
            <a:ext cx="1036800" cy="134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VETRO - bidone da 240 lt"/>
          <p:cNvPicPr/>
          <p:nvPr/>
        </p:nvPicPr>
        <p:blipFill>
          <a:blip r:embed="rId3"/>
          <a:stretch/>
        </p:blipFill>
        <p:spPr>
          <a:xfrm>
            <a:off x="3132000" y="5013360"/>
            <a:ext cx="105588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SECCO RESIDUO o CARTA- cassonetto 1100"/>
          <p:cNvPicPr/>
          <p:nvPr/>
        </p:nvPicPr>
        <p:blipFill>
          <a:blip r:embed="rId4"/>
          <a:stretch/>
        </p:blipFill>
        <p:spPr>
          <a:xfrm>
            <a:off x="6084720" y="4738680"/>
            <a:ext cx="1727280" cy="1712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ORGANICO - bidone da 240lt"/>
          <p:cNvPicPr/>
          <p:nvPr/>
        </p:nvPicPr>
        <p:blipFill>
          <a:blip r:embed="rId5"/>
          <a:stretch/>
        </p:blipFill>
        <p:spPr>
          <a:xfrm>
            <a:off x="4643280" y="5013360"/>
            <a:ext cx="993960" cy="136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chiave cassonetti con calotta"/>
          <p:cNvPicPr/>
          <p:nvPr/>
        </p:nvPicPr>
        <p:blipFill>
          <a:blip r:embed="rId6"/>
          <a:stretch/>
        </p:blipFill>
        <p:spPr>
          <a:xfrm>
            <a:off x="1258920" y="2852640"/>
            <a:ext cx="720720" cy="60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ORGANICO-cestino da sottolavello"/>
          <p:cNvPicPr/>
          <p:nvPr/>
        </p:nvPicPr>
        <p:blipFill>
          <a:blip r:embed="rId7"/>
          <a:stretch/>
        </p:blipFill>
        <p:spPr>
          <a:xfrm>
            <a:off x="6084720" y="2708280"/>
            <a:ext cx="822600" cy="86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ORGANICO - sacchetto biodegradabile in mater-bi"/>
          <p:cNvPicPr/>
          <p:nvPr/>
        </p:nvPicPr>
        <p:blipFill>
          <a:blip r:embed="rId8"/>
          <a:stretch/>
        </p:blipFill>
        <p:spPr>
          <a:xfrm>
            <a:off x="6948360" y="2852640"/>
            <a:ext cx="621000" cy="647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1" descr="chiave 8"/>
          <p:cNvPicPr/>
          <p:nvPr/>
        </p:nvPicPr>
        <p:blipFill>
          <a:blip r:embed="rId9"/>
          <a:stretch/>
        </p:blipFill>
        <p:spPr>
          <a:xfrm>
            <a:off x="3751200" y="2924280"/>
            <a:ext cx="965160" cy="33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chiave 8"/>
          <p:cNvPicPr/>
          <p:nvPr/>
        </p:nvPicPr>
        <p:blipFill>
          <a:blip r:embed="rId10"/>
          <a:stretch/>
        </p:blipFill>
        <p:spPr>
          <a:xfrm>
            <a:off x="7740720" y="3057480"/>
            <a:ext cx="863640" cy="3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6836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2142"/>
                </a:solidFill>
                <a:latin typeface="FetteEngD"/>
              </a:rPr>
              <a:t>I Comuni interess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-9360" y="0"/>
            <a:ext cx="9144000" cy="189000"/>
            <a:chOff x="-9360" y="0"/>
            <a:chExt cx="9144000" cy="189000"/>
          </a:xfrm>
        </p:grpSpPr>
        <p:sp>
          <p:nvSpPr>
            <p:cNvPr id="170" name="Rectangle 4"/>
            <p:cNvSpPr/>
            <p:nvPr/>
          </p:nvSpPr>
          <p:spPr>
            <a:xfrm rot="5400000">
              <a:off x="4472640" y="-4472640"/>
              <a:ext cx="18900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-9360" y="0"/>
              <a:ext cx="2781000" cy="18900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6"/>
          <p:cNvGrpSpPr/>
          <p:nvPr/>
        </p:nvGrpSpPr>
        <p:grpSpPr>
          <a:xfrm>
            <a:off x="0" y="6434280"/>
            <a:ext cx="9144000" cy="423720"/>
            <a:chOff x="0" y="6434280"/>
            <a:chExt cx="9144000" cy="423720"/>
          </a:xfrm>
        </p:grpSpPr>
        <p:sp>
          <p:nvSpPr>
            <p:cNvPr id="173" name="Rectangle 7"/>
            <p:cNvSpPr/>
            <p:nvPr/>
          </p:nvSpPr>
          <p:spPr>
            <a:xfrm rot="5400000">
              <a:off x="4365000" y="2088000"/>
              <a:ext cx="404640" cy="9134640"/>
            </a:xfrm>
            <a:prstGeom prst="rect">
              <a:avLst/>
            </a:prstGeom>
            <a:solidFill>
              <a:srgbClr val="6db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7885080" y="6434280"/>
              <a:ext cx="125892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9"/>
            <p:cNvSpPr/>
            <p:nvPr/>
          </p:nvSpPr>
          <p:spPr>
            <a:xfrm>
              <a:off x="0" y="6453360"/>
              <a:ext cx="2771640" cy="404640"/>
            </a:xfrm>
            <a:prstGeom prst="rect">
              <a:avLst/>
            </a:prstGeom>
            <a:solidFill>
              <a:srgbClr val="002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Text Box 10"/>
          <p:cNvSpPr/>
          <p:nvPr/>
        </p:nvSpPr>
        <p:spPr>
          <a:xfrm>
            <a:off x="5148360" y="549360"/>
            <a:ext cx="3168720" cy="3835440"/>
          </a:xfrm>
          <a:prstGeom prst="rect">
            <a:avLst/>
          </a:prstGeom>
          <a:solidFill>
            <a:srgbClr val="c1e0ff"/>
          </a:solidFill>
          <a:ln w="38160">
            <a:solidFill>
              <a:srgbClr val="0021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5ab4"/>
                </a:solidFill>
                <a:latin typeface="FetteEngD"/>
              </a:rPr>
              <a:t>NOVEMBRE 20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BUTT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CAMINO AL TAGLI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MORTEGLI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NIMIS </a:t>
            </a:r>
            <a:r>
              <a:rPr b="0" i="1" lang="en-US" sz="1600" spc="-1" strike="noStrike">
                <a:solidFill>
                  <a:srgbClr val="005ab4"/>
                </a:solidFill>
                <a:latin typeface="FetteEngD"/>
              </a:rPr>
              <a:t>(sistema mist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PAVIA DI UD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PRADAM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REANA DEL ROJ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REMANZAC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SEDEGLI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FetteEngD"/>
              </a:rPr>
              <a:t>&gt; VAR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647640" y="1197000"/>
            <a:ext cx="2772000" cy="2398320"/>
          </a:xfrm>
          <a:prstGeom prst="rect">
            <a:avLst/>
          </a:prstGeom>
          <a:solidFill>
            <a:srgbClr val="c1e0ff"/>
          </a:solidFill>
          <a:ln w="38160">
            <a:solidFill>
              <a:srgbClr val="0021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d03c1e"/>
                </a:solidFill>
                <a:latin typeface="FetteEngD"/>
              </a:rPr>
              <a:t>NOVEMBRE 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d03c1e"/>
                </a:solidFill>
                <a:latin typeface="FetteEngD"/>
              </a:rPr>
              <a:t>&gt; BERTIO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d03c1e"/>
                </a:solidFill>
                <a:latin typeface="FetteEngD"/>
              </a:rPr>
              <a:t>&gt; CAMPOFORM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d03c1e"/>
                </a:solidFill>
                <a:latin typeface="FetteEngD"/>
              </a:rPr>
              <a:t>&gt; CODRO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d03c1e"/>
                </a:solidFill>
                <a:latin typeface="FetteEngD"/>
              </a:rPr>
              <a:t>&gt; MARTIGNAC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d03c1e"/>
                </a:solidFill>
                <a:latin typeface="FetteEngD"/>
              </a:rPr>
              <a:t>&gt; PASIAN DI PRA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d03c1e"/>
                </a:solidFill>
                <a:latin typeface="FetteEngD"/>
              </a:rPr>
              <a:t>&gt; POZZUOLO DEL FRIU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971640" y="4508640"/>
            <a:ext cx="3564000" cy="1679760"/>
          </a:xfrm>
          <a:prstGeom prst="rect">
            <a:avLst/>
          </a:prstGeom>
          <a:solidFill>
            <a:srgbClr val="c1e0ff"/>
          </a:solidFill>
          <a:ln w="38160">
            <a:solidFill>
              <a:srgbClr val="0021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437731"/>
                </a:solidFill>
                <a:latin typeface="FetteEngD"/>
              </a:rPr>
              <a:t>APRILE 20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437731"/>
                </a:solidFill>
                <a:latin typeface="FetteEngD"/>
              </a:rPr>
              <a:t>&gt; CORNO DI ROSAZ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437731"/>
                </a:solidFill>
                <a:latin typeface="FetteEngD"/>
              </a:rPr>
              <a:t>&gt; LUSEVERA </a:t>
            </a:r>
            <a:r>
              <a:rPr b="0" i="1" lang="en-US" sz="1600" spc="-1" strike="noStrike">
                <a:solidFill>
                  <a:srgbClr val="437731"/>
                </a:solidFill>
                <a:latin typeface="FetteEngD"/>
              </a:rPr>
              <a:t>(modello “terre alte”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437731"/>
                </a:solidFill>
                <a:latin typeface="FetteEngD"/>
              </a:rPr>
              <a:t>&gt; MOIMAC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437731"/>
                </a:solidFill>
                <a:latin typeface="FetteEngD"/>
              </a:rPr>
              <a:t>&gt; SAN GIOVANNI AL NATIS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148360" y="4653000"/>
            <a:ext cx="3386160" cy="1553400"/>
          </a:xfrm>
          <a:prstGeom prst="rect">
            <a:avLst/>
          </a:prstGeom>
          <a:solidFill>
            <a:srgbClr val="c1e0ff"/>
          </a:solidFill>
          <a:ln w="38160">
            <a:solidFill>
              <a:srgbClr val="0021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a62a8e"/>
                </a:solidFill>
                <a:latin typeface="FetteEngD"/>
              </a:rPr>
              <a:t>OTTOBRE 20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a62a8e"/>
                </a:solidFill>
                <a:latin typeface="FetteEngD"/>
              </a:rPr>
              <a:t>&gt; BASILI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a62a8e"/>
                </a:solidFill>
                <a:latin typeface="FetteEngD"/>
              </a:rPr>
              <a:t>&gt; RIVIGNA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a62a8e"/>
                </a:solidFill>
                <a:latin typeface="FetteEngD"/>
              </a:rPr>
              <a:t>&gt; TAIPANA </a:t>
            </a:r>
            <a:r>
              <a:rPr b="0" i="1" lang="en-US" sz="1600" spc="-1" strike="noStrike">
                <a:solidFill>
                  <a:srgbClr val="a62a8e"/>
                </a:solidFill>
                <a:latin typeface="FetteEngD"/>
              </a:rPr>
              <a:t>(modello “terre alte”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nato Bernes</dc:creator>
  <dc:description/>
  <dc:language>en-US</dc:language>
  <cp:lastModifiedBy>Gianpaolo Stefanutti</cp:lastModifiedBy>
  <dcterms:modified xsi:type="dcterms:W3CDTF">2009-10-28T07:06:59Z</dcterms:modified>
  <cp:revision>226</cp:revision>
  <dc:subject/>
  <dc:title>PowerPoint Presentation</dc:title>
</cp:coreProperties>
</file>